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96DB-D845-4833-916E-FF6EE1063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BF9F-6224-4152-B5FB-AFFDBB9E0B0E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1B98-54C7-4AD6-B35F-0742AE68CAFD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3BE2-DF98-462E-90BF-B61CCA0B7434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C649-FA0C-4285-BD79-2923673F1F50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D0A8-0AB4-473D-A003-075BC8BDDAAE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4038-8979-4333-A0AC-F5414FD1FBB4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C195-194C-4BFC-B6EE-66C18987DB6A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BA0F-F15A-4977-B3F6-9A7DA8864D2F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8BCF-4820-4412-B09C-F9D343F29F09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4894-9AEA-4581-AAF4-3F0FB71927DD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B604-A3AA-4ADD-872E-553BF52DE1A7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41F8-4E4D-4348-9EC9-E40CA48F6CB3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ABD7-3C99-402C-A754-2A1CD1876572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4528-700E-4A50-8652-E124E4C08480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1C7D-4CBA-43DA-A721-2FBA6B7EA62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D3F0-9030-4416-87E9-719C8A6A3182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6D46-A7EC-475D-B27E-137F5C4F57F9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4621-53AB-41F4-93D3-7A47F7A746D2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8A40-98AA-4F70-9259-C7A3E52281FB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F2C09-1946-4BD8-823F-53A6733B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49A1E-35E0-4483-8774-82D81108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3D059-1DE9-4D8A-85DB-3C20372D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DA097-DBEE-48A8-9A7B-EA3D4A83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D646-342B-4B31-A3B1-E584CB21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92F8-A998-4E93-A901-91A93640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D728-4BDE-44C9-813C-44BAAFA8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4C73-1E2A-475B-895F-D4872030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71EB-2262-49F5-889C-A52C7050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8E6D-70FC-4A7F-A368-333155D3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2286-7BB1-451B-8666-1550BC45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B2AB7-6E0F-49DE-910A-4A2FD5A5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E88A-DC44-4132-BBC7-0044F315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E4F4-62F0-40B6-B9A9-6EFC0CDB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DEB9-CC6F-4A61-A54B-C4718202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F0A0-C574-46BA-8F29-3159883B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E289-A48B-4642-81DD-9AF83B02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36A91-81E1-4C2C-AE8A-ED0557BD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ADDA4-73F0-4510-9ED3-5FA305A1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AAEFA-837F-4F9F-94FD-64668DEB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5FE42-A094-41CC-A55F-0744E7BE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56032-80E9-45F0-B5FB-09FF72F1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ED4C3-4491-48DA-80F1-0C82A59C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416F3-719B-42F4-ADA6-3B177C6B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09A0-CA09-43C0-8CC2-5522616F74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-2239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68160" indent="-223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16000" indent="-223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-2239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68160" indent="-223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16000" indent="-223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7582-6363-4630-ACF1-EFA3BCA195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Zakim_Bridge_AndyRyan"/>
          <p:cNvPicPr/>
          <p:nvPr/>
        </p:nvPicPr>
        <p:blipFill>
          <a:blip r:embed="rId1"/>
          <a:stretch/>
        </p:blipFill>
        <p:spPr>
          <a:xfrm>
            <a:off x="4572000" y="228600"/>
            <a:ext cx="4200480" cy="3124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goldengate2"/>
          <p:cNvPicPr/>
          <p:nvPr/>
        </p:nvPicPr>
        <p:blipFill>
          <a:blip r:embed="rId2"/>
          <a:stretch/>
        </p:blipFill>
        <p:spPr>
          <a:xfrm>
            <a:off x="304920" y="3733920"/>
            <a:ext cx="4343400" cy="2790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4280" y="1368360"/>
            <a:ext cx="39387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Comic Sans MS"/>
                <a:ea typeface="GulimChe"/>
              </a:rPr>
              <a:t>Bridges</a:t>
            </a:r>
            <a:endParaRPr b="1" lang="en-US" sz="6000" spc="-1" strike="noStrike">
              <a:solidFill>
                <a:srgbClr val="e5e5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pont-du-gard"/>
          <p:cNvPicPr/>
          <p:nvPr/>
        </p:nvPicPr>
        <p:blipFill>
          <a:blip r:embed="rId1"/>
          <a:stretch/>
        </p:blipFill>
        <p:spPr>
          <a:xfrm>
            <a:off x="506520" y="407880"/>
            <a:ext cx="8109000" cy="55292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523800" y="598500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ont du Gard, Nimes, Franc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Arch Bridg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6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Keyston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– the wedge-shaped stone of an arch that locks its parts togeth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butment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– the structures that support the ends of the brid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AutoShape 10"/>
          <p:cNvSpPr/>
          <p:nvPr/>
        </p:nvSpPr>
        <p:spPr>
          <a:xfrm rot="3036600">
            <a:off x="3966840" y="4233600"/>
            <a:ext cx="4039920" cy="4040280"/>
          </a:xfrm>
          <a:custGeom>
            <a:avLst/>
            <a:gdLst>
              <a:gd name="textAreaLeft" fmla="*/ 449640 w 4039920"/>
              <a:gd name="textAreaRight" fmla="*/ 3590280 w 4039920"/>
              <a:gd name="textAreaTop" fmla="*/ 0 h 4040280"/>
              <a:gd name="textAreaBottom" fmla="*/ 1106640 h 4040280"/>
            </a:gdLst>
            <a:ahLst/>
            <a:rect l="textAreaLeft" t="textAreaTop" r="textAreaRight" b="textAreaBottom"/>
            <a:pathLst>
              <a:path w="21600" h="21600">
                <a:moveTo>
                  <a:pt x="5903" y="4776"/>
                </a:moveTo>
                <a:cubicBezTo>
                  <a:pt x="7287" y="3651"/>
                  <a:pt x="9016" y="3036"/>
                  <a:pt x="10800" y="3036"/>
                </a:cubicBezTo>
                <a:cubicBezTo>
                  <a:pt x="12583" y="3036"/>
                  <a:pt x="14312" y="3651"/>
                  <a:pt x="15696" y="4776"/>
                </a:cubicBezTo>
                <a:lnTo>
                  <a:pt x="17612" y="2419"/>
                </a:lnTo>
                <a:cubicBezTo>
                  <a:pt x="15687" y="854"/>
                  <a:pt x="13281" y="0"/>
                  <a:pt x="10799" y="0"/>
                </a:cubicBezTo>
                <a:cubicBezTo>
                  <a:pt x="8318" y="0"/>
                  <a:pt x="5912" y="854"/>
                  <a:pt x="3987" y="2419"/>
                </a:cubicBezTo>
                <a:lnTo>
                  <a:pt x="5903" y="477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AutoShape 11"/>
          <p:cNvSpPr/>
          <p:nvPr/>
        </p:nvSpPr>
        <p:spPr>
          <a:xfrm flipH="1" rot="18563400">
            <a:off x="3977640" y="4245120"/>
            <a:ext cx="4039920" cy="4039920"/>
          </a:xfrm>
          <a:custGeom>
            <a:avLst/>
            <a:gdLst>
              <a:gd name="textAreaLeft" fmla="*/ 449640 w 4039920"/>
              <a:gd name="textAreaRight" fmla="*/ 3590280 w 4039920"/>
              <a:gd name="textAreaTop" fmla="*/ 0 h 4039920"/>
              <a:gd name="textAreaBottom" fmla="*/ 1106640 h 4039920"/>
            </a:gdLst>
            <a:ahLst/>
            <a:rect l="textAreaLeft" t="textAreaTop" r="textAreaRight" b="textAreaBottom"/>
            <a:pathLst>
              <a:path w="21600" h="21600">
                <a:moveTo>
                  <a:pt x="5903" y="4776"/>
                </a:moveTo>
                <a:cubicBezTo>
                  <a:pt x="7287" y="3651"/>
                  <a:pt x="9016" y="3036"/>
                  <a:pt x="10800" y="3036"/>
                </a:cubicBezTo>
                <a:cubicBezTo>
                  <a:pt x="12583" y="3036"/>
                  <a:pt x="14312" y="3651"/>
                  <a:pt x="15696" y="4776"/>
                </a:cubicBezTo>
                <a:lnTo>
                  <a:pt x="17612" y="2419"/>
                </a:lnTo>
                <a:cubicBezTo>
                  <a:pt x="15687" y="854"/>
                  <a:pt x="13281" y="0"/>
                  <a:pt x="10799" y="0"/>
                </a:cubicBezTo>
                <a:cubicBezTo>
                  <a:pt x="8318" y="0"/>
                  <a:pt x="5912" y="854"/>
                  <a:pt x="3987" y="2419"/>
                </a:cubicBezTo>
                <a:lnTo>
                  <a:pt x="5903" y="477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AutoShape 12"/>
          <p:cNvSpPr/>
          <p:nvPr/>
        </p:nvSpPr>
        <p:spPr>
          <a:xfrm flipH="1" rot="21580800">
            <a:off x="3974760" y="4238640"/>
            <a:ext cx="4040280" cy="4041720"/>
          </a:xfrm>
          <a:custGeom>
            <a:avLst/>
            <a:gdLst>
              <a:gd name="textAreaLeft" fmla="*/ 1293480 w 4040280"/>
              <a:gd name="textAreaRight" fmla="*/ 2746800 w 4040280"/>
              <a:gd name="textAreaTop" fmla="*/ 0 h 4041720"/>
              <a:gd name="textAreaBottom" fmla="*/ 663840 h 4041720"/>
            </a:gdLst>
            <a:ahLst/>
            <a:rect l="textAreaLeft" t="textAreaTop" r="textAreaRight" b="textAreaBottom"/>
            <a:pathLst>
              <a:path w="21600" h="21600">
                <a:moveTo>
                  <a:pt x="9225" y="3190"/>
                </a:moveTo>
                <a:cubicBezTo>
                  <a:pt x="9743" y="3083"/>
                  <a:pt x="10270" y="3028"/>
                  <a:pt x="10800" y="3028"/>
                </a:cubicBezTo>
                <a:cubicBezTo>
                  <a:pt x="11329" y="3028"/>
                  <a:pt x="11856" y="3083"/>
                  <a:pt x="12374" y="3190"/>
                </a:cubicBezTo>
                <a:lnTo>
                  <a:pt x="12988" y="224"/>
                </a:lnTo>
                <a:cubicBezTo>
                  <a:pt x="12268" y="75"/>
                  <a:pt x="11535" y="0"/>
                  <a:pt x="10799" y="0"/>
                </a:cubicBezTo>
                <a:cubicBezTo>
                  <a:pt x="10064" y="0"/>
                  <a:pt x="9331" y="75"/>
                  <a:pt x="8611" y="224"/>
                </a:cubicBezTo>
                <a:lnTo>
                  <a:pt x="9225" y="319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3184560" y="5575320"/>
            <a:ext cx="797040" cy="679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8020080" y="5554800"/>
            <a:ext cx="797040" cy="6951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4"/>
          <p:cNvGrpSpPr/>
          <p:nvPr/>
        </p:nvGrpSpPr>
        <p:grpSpPr>
          <a:xfrm>
            <a:off x="826200" y="1806840"/>
            <a:ext cx="7625520" cy="7625520"/>
            <a:chOff x="826200" y="1806840"/>
            <a:chExt cx="7625520" cy="7625520"/>
          </a:xfrm>
        </p:grpSpPr>
        <p:sp>
          <p:nvSpPr>
            <p:cNvPr id="148" name="AutoShape 25"/>
            <p:cNvSpPr/>
            <p:nvPr/>
          </p:nvSpPr>
          <p:spPr>
            <a:xfrm rot="3036600">
              <a:off x="1927800" y="2908440"/>
              <a:ext cx="5407560" cy="5407560"/>
            </a:xfrm>
            <a:custGeom>
              <a:avLst/>
              <a:gdLst>
                <a:gd name="textAreaLeft" fmla="*/ 601200 w 5407560"/>
                <a:gd name="textAreaRight" fmla="*/ 4806360 w 5407560"/>
                <a:gd name="textAreaTop" fmla="*/ 0 h 5407560"/>
                <a:gd name="textAreaBottom" fmla="*/ 1481040 h 540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903" y="4776"/>
                  </a:moveTo>
                  <a:cubicBezTo>
                    <a:pt x="7287" y="3651"/>
                    <a:pt x="9016" y="3036"/>
                    <a:pt x="10800" y="3036"/>
                  </a:cubicBezTo>
                  <a:cubicBezTo>
                    <a:pt x="12583" y="3036"/>
                    <a:pt x="14312" y="3651"/>
                    <a:pt x="15696" y="4776"/>
                  </a:cubicBezTo>
                  <a:lnTo>
                    <a:pt x="17612" y="2419"/>
                  </a:lnTo>
                  <a:cubicBezTo>
                    <a:pt x="15687" y="854"/>
                    <a:pt x="13281" y="0"/>
                    <a:pt x="10799" y="0"/>
                  </a:cubicBezTo>
                  <a:cubicBezTo>
                    <a:pt x="8318" y="0"/>
                    <a:pt x="5912" y="854"/>
                    <a:pt x="3987" y="2419"/>
                  </a:cubicBezTo>
                  <a:lnTo>
                    <a:pt x="5903" y="4776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9" name="AutoShape 26"/>
            <p:cNvSpPr/>
            <p:nvPr/>
          </p:nvSpPr>
          <p:spPr>
            <a:xfrm flipH="1" rot="18563400">
              <a:off x="1942200" y="2923200"/>
              <a:ext cx="5407560" cy="5407560"/>
            </a:xfrm>
            <a:custGeom>
              <a:avLst/>
              <a:gdLst>
                <a:gd name="textAreaLeft" fmla="*/ 601200 w 5407560"/>
                <a:gd name="textAreaRight" fmla="*/ 4806360 w 5407560"/>
                <a:gd name="textAreaTop" fmla="*/ 0 h 5407560"/>
                <a:gd name="textAreaBottom" fmla="*/ 1481040 h 540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903" y="4776"/>
                  </a:moveTo>
                  <a:cubicBezTo>
                    <a:pt x="7287" y="3651"/>
                    <a:pt x="9016" y="3036"/>
                    <a:pt x="10800" y="3036"/>
                  </a:cubicBezTo>
                  <a:cubicBezTo>
                    <a:pt x="12583" y="3036"/>
                    <a:pt x="14312" y="3651"/>
                    <a:pt x="15696" y="4776"/>
                  </a:cubicBezTo>
                  <a:lnTo>
                    <a:pt x="17612" y="2419"/>
                  </a:lnTo>
                  <a:cubicBezTo>
                    <a:pt x="15687" y="854"/>
                    <a:pt x="13281" y="0"/>
                    <a:pt x="10799" y="0"/>
                  </a:cubicBezTo>
                  <a:cubicBezTo>
                    <a:pt x="8318" y="0"/>
                    <a:pt x="5912" y="854"/>
                    <a:pt x="3987" y="2419"/>
                  </a:cubicBezTo>
                  <a:lnTo>
                    <a:pt x="5903" y="4776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0" name="AutoShape 27"/>
            <p:cNvSpPr/>
            <p:nvPr/>
          </p:nvSpPr>
          <p:spPr>
            <a:xfrm flipH="1" rot="21580800">
              <a:off x="1956960" y="2914200"/>
              <a:ext cx="5407560" cy="5409720"/>
            </a:xfrm>
            <a:custGeom>
              <a:avLst/>
              <a:gdLst>
                <a:gd name="textAreaLeft" fmla="*/ 1759320 w 5407560"/>
                <a:gd name="textAreaRight" fmla="*/ 3648240 w 5407560"/>
                <a:gd name="textAreaTop" fmla="*/ 0 h 5409720"/>
                <a:gd name="textAreaBottom" fmla="*/ 885960 h 540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06" y="3192"/>
                  </a:moveTo>
                  <a:cubicBezTo>
                    <a:pt x="9798" y="3095"/>
                    <a:pt x="10298" y="3046"/>
                    <a:pt x="10800" y="3046"/>
                  </a:cubicBezTo>
                  <a:cubicBezTo>
                    <a:pt x="11301" y="3046"/>
                    <a:pt x="11801" y="3095"/>
                    <a:pt x="12293" y="3192"/>
                  </a:cubicBezTo>
                  <a:lnTo>
                    <a:pt x="12881" y="202"/>
                  </a:lnTo>
                  <a:cubicBezTo>
                    <a:pt x="12195" y="67"/>
                    <a:pt x="11498" y="0"/>
                    <a:pt x="10799" y="0"/>
                  </a:cubicBezTo>
                  <a:cubicBezTo>
                    <a:pt x="10101" y="0"/>
                    <a:pt x="9404" y="67"/>
                    <a:pt x="8718" y="202"/>
                  </a:cubicBezTo>
                  <a:lnTo>
                    <a:pt x="9306" y="3192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1" name="Rectangle 28"/>
            <p:cNvSpPr/>
            <p:nvPr/>
          </p:nvSpPr>
          <p:spPr>
            <a:xfrm>
              <a:off x="880920" y="4703400"/>
              <a:ext cx="1066680" cy="909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2" name="Rectangle 29"/>
            <p:cNvSpPr/>
            <p:nvPr/>
          </p:nvSpPr>
          <p:spPr>
            <a:xfrm>
              <a:off x="7353000" y="4676040"/>
              <a:ext cx="1066680" cy="930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Arch Bridg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orks b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ompres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4191120" y="137160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AutoShape 19"/>
          <p:cNvSpPr/>
          <p:nvPr/>
        </p:nvSpPr>
        <p:spPr>
          <a:xfrm>
            <a:off x="3276720" y="3048120"/>
            <a:ext cx="838080" cy="609480"/>
          </a:xfrm>
          <a:prstGeom prst="rightArrow">
            <a:avLst>
              <a:gd name="adj1" fmla="val 50000"/>
              <a:gd name="adj2" fmla="val 3437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AutoShape 21"/>
          <p:cNvSpPr/>
          <p:nvPr/>
        </p:nvSpPr>
        <p:spPr>
          <a:xfrm flipH="1">
            <a:off x="5180760" y="304812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AutoShape 22"/>
          <p:cNvSpPr/>
          <p:nvPr/>
        </p:nvSpPr>
        <p:spPr>
          <a:xfrm>
            <a:off x="604800" y="4987800"/>
            <a:ext cx="838080" cy="609840"/>
          </a:xfrm>
          <a:prstGeom prst="rightArrow">
            <a:avLst>
              <a:gd name="adj1" fmla="val 50000"/>
              <a:gd name="adj2" fmla="val 3435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AutoShape 23"/>
          <p:cNvSpPr/>
          <p:nvPr/>
        </p:nvSpPr>
        <p:spPr>
          <a:xfrm flipH="1">
            <a:off x="7910640" y="5018040"/>
            <a:ext cx="838080" cy="609480"/>
          </a:xfrm>
          <a:prstGeom prst="rightArrow">
            <a:avLst>
              <a:gd name="adj1" fmla="val 50000"/>
              <a:gd name="adj2" fmla="val 3437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AutoShape 30"/>
          <p:cNvSpPr/>
          <p:nvPr/>
        </p:nvSpPr>
        <p:spPr>
          <a:xfrm flipH="1">
            <a:off x="2549520" y="5006880"/>
            <a:ext cx="838080" cy="609840"/>
          </a:xfrm>
          <a:prstGeom prst="rightArrow">
            <a:avLst>
              <a:gd name="adj1" fmla="val 50000"/>
              <a:gd name="adj2" fmla="val 3435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AutoShape 31"/>
          <p:cNvSpPr/>
          <p:nvPr/>
        </p:nvSpPr>
        <p:spPr>
          <a:xfrm>
            <a:off x="5959440" y="5006880"/>
            <a:ext cx="838080" cy="609840"/>
          </a:xfrm>
          <a:prstGeom prst="rightArrow">
            <a:avLst>
              <a:gd name="adj1" fmla="val 50000"/>
              <a:gd name="adj2" fmla="val 3435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3.33333E-006 0.13334 E">
                                      <p:cBhvr>
                                        <p:cTn id="177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0625 -3.33333E-006 E">
                                      <p:cBhvr>
                                        <p:cTn id="180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-0.0625 -3.33333E-006 E">
                                      <p:cBhvr>
                                        <p:cTn id="182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-3.33333E-006 L 0.0625 -3.33333E-006 E">
                                      <p:cBhvr>
                                        <p:cTn id="184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-3.33333E-006 L -0.0625 -3.33333E-006 E">
                                      <p:cBhvr>
                                        <p:cTn id="186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-3.33333E-006 L -0.0625 -3.33333E-006 E">
                                      <p:cBhvr>
                                        <p:cTn id="188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-3.33333E-006 L 0.0625 -3.33333E-006 E">
                                      <p:cBhvr>
                                        <p:cTn id="190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4" descr="Golden%20Gate%20Bridge%203"/>
          <p:cNvPicPr/>
          <p:nvPr/>
        </p:nvPicPr>
        <p:blipFill>
          <a:blip r:embed="rId1"/>
          <a:stretch/>
        </p:blipFill>
        <p:spPr>
          <a:xfrm>
            <a:off x="833400" y="409680"/>
            <a:ext cx="7543800" cy="56577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5"/>
          <p:cNvSpPr/>
          <p:nvPr/>
        </p:nvSpPr>
        <p:spPr>
          <a:xfrm>
            <a:off x="826920" y="6093000"/>
            <a:ext cx="49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olden Gate Bridge, San Francisco, C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Brooklyn Bridge, New York"/>
          <p:cNvPicPr/>
          <p:nvPr/>
        </p:nvPicPr>
        <p:blipFill>
          <a:blip r:embed="rId1"/>
          <a:stretch/>
        </p:blipFill>
        <p:spPr>
          <a:xfrm>
            <a:off x="511200" y="584280"/>
            <a:ext cx="8120160" cy="54529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0"/>
          <p:cNvSpPr/>
          <p:nvPr/>
        </p:nvSpPr>
        <p:spPr>
          <a:xfrm>
            <a:off x="517680" y="6066000"/>
            <a:ext cx="54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rooklyn Bridge, Brooklyn, N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verrazanobridge"/>
          <p:cNvPicPr/>
          <p:nvPr/>
        </p:nvPicPr>
        <p:blipFill>
          <a:blip r:embed="rId1"/>
          <a:stretch/>
        </p:blipFill>
        <p:spPr>
          <a:xfrm>
            <a:off x="457200" y="495360"/>
            <a:ext cx="8229600" cy="54100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471600" y="5913360"/>
            <a:ext cx="69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errazano-Narrows Bridge, New York, N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Suspension Bridg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have you seen these bridge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76"/>
          <p:cNvGrpSpPr/>
          <p:nvPr/>
        </p:nvGrpSpPr>
        <p:grpSpPr>
          <a:xfrm>
            <a:off x="6767640" y="4449600"/>
            <a:ext cx="476280" cy="601920"/>
            <a:chOff x="6767640" y="4449600"/>
            <a:chExt cx="476280" cy="601920"/>
          </a:xfrm>
        </p:grpSpPr>
        <p:sp>
          <p:nvSpPr>
            <p:cNvPr id="171" name="Line 61"/>
            <p:cNvSpPr/>
            <p:nvPr/>
          </p:nvSpPr>
          <p:spPr>
            <a:xfrm>
              <a:off x="6767640" y="4449600"/>
              <a:ext cx="0" cy="56376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2" name="Line 62"/>
            <p:cNvSpPr/>
            <p:nvPr/>
          </p:nvSpPr>
          <p:spPr>
            <a:xfrm>
              <a:off x="6880320" y="4600440"/>
              <a:ext cx="0" cy="45108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3" name="Line 63"/>
            <p:cNvSpPr/>
            <p:nvPr/>
          </p:nvSpPr>
          <p:spPr>
            <a:xfrm>
              <a:off x="7005600" y="4713120"/>
              <a:ext cx="0" cy="30024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4" name="Line 64"/>
            <p:cNvSpPr/>
            <p:nvPr/>
          </p:nvSpPr>
          <p:spPr>
            <a:xfrm>
              <a:off x="7130880" y="4826160"/>
              <a:ext cx="0" cy="1998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5" name="Line 65"/>
            <p:cNvSpPr/>
            <p:nvPr/>
          </p:nvSpPr>
          <p:spPr>
            <a:xfrm>
              <a:off x="7243920" y="4875120"/>
              <a:ext cx="0" cy="16344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76" name="Group 75"/>
          <p:cNvGrpSpPr/>
          <p:nvPr/>
        </p:nvGrpSpPr>
        <p:grpSpPr>
          <a:xfrm>
            <a:off x="5902200" y="3801960"/>
            <a:ext cx="739800" cy="1249560"/>
            <a:chOff x="5902200" y="3801960"/>
            <a:chExt cx="739800" cy="1249560"/>
          </a:xfrm>
        </p:grpSpPr>
        <p:sp>
          <p:nvSpPr>
            <p:cNvPr id="177" name="Line 37"/>
            <p:cNvSpPr/>
            <p:nvPr/>
          </p:nvSpPr>
          <p:spPr>
            <a:xfrm>
              <a:off x="6202440" y="3801960"/>
              <a:ext cx="0" cy="119088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8" name="Line 38"/>
            <p:cNvSpPr/>
            <p:nvPr/>
          </p:nvSpPr>
          <p:spPr>
            <a:xfrm>
              <a:off x="6053040" y="4065480"/>
              <a:ext cx="0" cy="9144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9" name="Line 39"/>
            <p:cNvSpPr/>
            <p:nvPr/>
          </p:nvSpPr>
          <p:spPr>
            <a:xfrm>
              <a:off x="5902200" y="4229280"/>
              <a:ext cx="0" cy="7506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0" name="Line 59"/>
            <p:cNvSpPr/>
            <p:nvPr/>
          </p:nvSpPr>
          <p:spPr>
            <a:xfrm>
              <a:off x="6529320" y="4024440"/>
              <a:ext cx="0" cy="98892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1" name="Line 60"/>
            <p:cNvSpPr/>
            <p:nvPr/>
          </p:nvSpPr>
          <p:spPr>
            <a:xfrm>
              <a:off x="6642000" y="4287960"/>
              <a:ext cx="0" cy="76356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82" name="Group 74"/>
          <p:cNvGrpSpPr/>
          <p:nvPr/>
        </p:nvGrpSpPr>
        <p:grpSpPr>
          <a:xfrm>
            <a:off x="1490760" y="4421160"/>
            <a:ext cx="588960" cy="639720"/>
            <a:chOff x="1490760" y="4421160"/>
            <a:chExt cx="588960" cy="639720"/>
          </a:xfrm>
        </p:grpSpPr>
        <p:sp>
          <p:nvSpPr>
            <p:cNvPr id="183" name="Line 53"/>
            <p:cNvSpPr/>
            <p:nvPr/>
          </p:nvSpPr>
          <p:spPr>
            <a:xfrm>
              <a:off x="2079720" y="4421160"/>
              <a:ext cx="0" cy="60156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4" name="Line 54"/>
            <p:cNvSpPr/>
            <p:nvPr/>
          </p:nvSpPr>
          <p:spPr>
            <a:xfrm>
              <a:off x="1967040" y="4546440"/>
              <a:ext cx="0" cy="48924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5" name="Line 55"/>
            <p:cNvSpPr/>
            <p:nvPr/>
          </p:nvSpPr>
          <p:spPr>
            <a:xfrm>
              <a:off x="1841400" y="4684680"/>
              <a:ext cx="0" cy="33804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6" name="Line 56"/>
            <p:cNvSpPr/>
            <p:nvPr/>
          </p:nvSpPr>
          <p:spPr>
            <a:xfrm>
              <a:off x="1716120" y="4784760"/>
              <a:ext cx="0" cy="26352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7" name="Line 57"/>
            <p:cNvSpPr/>
            <p:nvPr/>
          </p:nvSpPr>
          <p:spPr>
            <a:xfrm>
              <a:off x="1603440" y="4846680"/>
              <a:ext cx="0" cy="2142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8" name="Line 58"/>
            <p:cNvSpPr/>
            <p:nvPr/>
          </p:nvSpPr>
          <p:spPr>
            <a:xfrm>
              <a:off x="1490760" y="4910040"/>
              <a:ext cx="0" cy="13824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89" name="Group 73"/>
          <p:cNvGrpSpPr/>
          <p:nvPr/>
        </p:nvGrpSpPr>
        <p:grpSpPr>
          <a:xfrm>
            <a:off x="2205000" y="3870360"/>
            <a:ext cx="801720" cy="1190520"/>
            <a:chOff x="2205000" y="3870360"/>
            <a:chExt cx="801720" cy="1190520"/>
          </a:xfrm>
        </p:grpSpPr>
        <p:sp>
          <p:nvSpPr>
            <p:cNvPr id="190" name="Line 23"/>
            <p:cNvSpPr/>
            <p:nvPr/>
          </p:nvSpPr>
          <p:spPr>
            <a:xfrm>
              <a:off x="2706840" y="3870360"/>
              <a:ext cx="0" cy="119052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1" name="Line 24"/>
            <p:cNvSpPr/>
            <p:nvPr/>
          </p:nvSpPr>
          <p:spPr>
            <a:xfrm>
              <a:off x="2855880" y="4121280"/>
              <a:ext cx="0" cy="9144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2" name="Line 25"/>
            <p:cNvSpPr/>
            <p:nvPr/>
          </p:nvSpPr>
          <p:spPr>
            <a:xfrm>
              <a:off x="3006720" y="4272120"/>
              <a:ext cx="0" cy="7506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3" name="Line 51"/>
            <p:cNvSpPr/>
            <p:nvPr/>
          </p:nvSpPr>
          <p:spPr>
            <a:xfrm>
              <a:off x="2317680" y="3957480"/>
              <a:ext cx="0" cy="10908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4" name="Line 52"/>
            <p:cNvSpPr/>
            <p:nvPr/>
          </p:nvSpPr>
          <p:spPr>
            <a:xfrm>
              <a:off x="2205000" y="4208400"/>
              <a:ext cx="0" cy="83988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5" name="Rectangle 18"/>
          <p:cNvSpPr/>
          <p:nvPr/>
        </p:nvSpPr>
        <p:spPr>
          <a:xfrm>
            <a:off x="2098800" y="4992840"/>
            <a:ext cx="928440" cy="101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96" name="Group 70"/>
          <p:cNvGrpSpPr/>
          <p:nvPr/>
        </p:nvGrpSpPr>
        <p:grpSpPr>
          <a:xfrm>
            <a:off x="3168720" y="4433760"/>
            <a:ext cx="663480" cy="601920"/>
            <a:chOff x="3168720" y="4433760"/>
            <a:chExt cx="663480" cy="601920"/>
          </a:xfrm>
        </p:grpSpPr>
        <p:sp>
          <p:nvSpPr>
            <p:cNvPr id="197" name="Line 26"/>
            <p:cNvSpPr/>
            <p:nvPr/>
          </p:nvSpPr>
          <p:spPr>
            <a:xfrm>
              <a:off x="3168720" y="4433760"/>
              <a:ext cx="0" cy="60192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" name="Line 27"/>
            <p:cNvSpPr/>
            <p:nvPr/>
          </p:nvSpPr>
          <p:spPr>
            <a:xfrm>
              <a:off x="3306600" y="4533840"/>
              <a:ext cx="0" cy="48888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9" name="Line 28"/>
            <p:cNvSpPr/>
            <p:nvPr/>
          </p:nvSpPr>
          <p:spPr>
            <a:xfrm>
              <a:off x="3432240" y="4584600"/>
              <a:ext cx="0" cy="45108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0" name="Line 29"/>
            <p:cNvSpPr/>
            <p:nvPr/>
          </p:nvSpPr>
          <p:spPr>
            <a:xfrm>
              <a:off x="3570120" y="4659480"/>
              <a:ext cx="0" cy="3762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1" name="Line 30"/>
            <p:cNvSpPr/>
            <p:nvPr/>
          </p:nvSpPr>
          <p:spPr>
            <a:xfrm>
              <a:off x="3719520" y="4697280"/>
              <a:ext cx="0" cy="3384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2" name="Line 31"/>
            <p:cNvSpPr/>
            <p:nvPr/>
          </p:nvSpPr>
          <p:spPr>
            <a:xfrm>
              <a:off x="3832200" y="4746600"/>
              <a:ext cx="0" cy="27612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03" name="Group 71"/>
          <p:cNvGrpSpPr/>
          <p:nvPr/>
        </p:nvGrpSpPr>
        <p:grpSpPr>
          <a:xfrm>
            <a:off x="4951440" y="4390920"/>
            <a:ext cx="789120" cy="627120"/>
            <a:chOff x="4951440" y="4390920"/>
            <a:chExt cx="789120" cy="627120"/>
          </a:xfrm>
        </p:grpSpPr>
        <p:sp>
          <p:nvSpPr>
            <p:cNvPr id="204" name="Line 40"/>
            <p:cNvSpPr/>
            <p:nvPr/>
          </p:nvSpPr>
          <p:spPr>
            <a:xfrm>
              <a:off x="5740560" y="4390920"/>
              <a:ext cx="0" cy="60192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5" name="Line 41"/>
            <p:cNvSpPr/>
            <p:nvPr/>
          </p:nvSpPr>
          <p:spPr>
            <a:xfrm>
              <a:off x="5602320" y="4491000"/>
              <a:ext cx="0" cy="48888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6" name="Line 42"/>
            <p:cNvSpPr/>
            <p:nvPr/>
          </p:nvSpPr>
          <p:spPr>
            <a:xfrm>
              <a:off x="5477040" y="4567320"/>
              <a:ext cx="0" cy="45072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7" name="Line 43"/>
            <p:cNvSpPr/>
            <p:nvPr/>
          </p:nvSpPr>
          <p:spPr>
            <a:xfrm>
              <a:off x="5338800" y="4641840"/>
              <a:ext cx="0" cy="3762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8" name="Line 44"/>
            <p:cNvSpPr/>
            <p:nvPr/>
          </p:nvSpPr>
          <p:spPr>
            <a:xfrm>
              <a:off x="5189400" y="4680000"/>
              <a:ext cx="0" cy="33804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9" name="Line 45"/>
            <p:cNvSpPr/>
            <p:nvPr/>
          </p:nvSpPr>
          <p:spPr>
            <a:xfrm>
              <a:off x="5076720" y="4741920"/>
              <a:ext cx="0" cy="27612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0" name="Line 46"/>
            <p:cNvSpPr/>
            <p:nvPr/>
          </p:nvSpPr>
          <p:spPr>
            <a:xfrm>
              <a:off x="4951440" y="4780080"/>
              <a:ext cx="0" cy="23796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11" name="Group 69"/>
          <p:cNvGrpSpPr/>
          <p:nvPr/>
        </p:nvGrpSpPr>
        <p:grpSpPr>
          <a:xfrm>
            <a:off x="3957480" y="4784760"/>
            <a:ext cx="855720" cy="250920"/>
            <a:chOff x="3957480" y="4784760"/>
            <a:chExt cx="855720" cy="250920"/>
          </a:xfrm>
        </p:grpSpPr>
        <p:sp>
          <p:nvSpPr>
            <p:cNvPr id="212" name="Line 32"/>
            <p:cNvSpPr/>
            <p:nvPr/>
          </p:nvSpPr>
          <p:spPr>
            <a:xfrm>
              <a:off x="3957480" y="4784760"/>
              <a:ext cx="0" cy="23796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3" name="Line 33"/>
            <p:cNvSpPr/>
            <p:nvPr/>
          </p:nvSpPr>
          <p:spPr>
            <a:xfrm>
              <a:off x="4095720" y="4822920"/>
              <a:ext cx="0" cy="21276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4" name="Line 34"/>
            <p:cNvSpPr/>
            <p:nvPr/>
          </p:nvSpPr>
          <p:spPr>
            <a:xfrm>
              <a:off x="4221000" y="4848120"/>
              <a:ext cx="0" cy="1746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5" name="Line 35"/>
            <p:cNvSpPr/>
            <p:nvPr/>
          </p:nvSpPr>
          <p:spPr>
            <a:xfrm>
              <a:off x="4384800" y="4835520"/>
              <a:ext cx="0" cy="20016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6" name="Line 47"/>
            <p:cNvSpPr/>
            <p:nvPr/>
          </p:nvSpPr>
          <p:spPr>
            <a:xfrm>
              <a:off x="4813200" y="4818240"/>
              <a:ext cx="0" cy="2124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7" name="Line 48"/>
            <p:cNvSpPr/>
            <p:nvPr/>
          </p:nvSpPr>
          <p:spPr>
            <a:xfrm>
              <a:off x="4687920" y="4843440"/>
              <a:ext cx="0" cy="1746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8" name="Line 49"/>
            <p:cNvSpPr/>
            <p:nvPr/>
          </p:nvSpPr>
          <p:spPr>
            <a:xfrm>
              <a:off x="4524480" y="4830840"/>
              <a:ext cx="0" cy="1998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19" name="Rectangle 13"/>
          <p:cNvSpPr/>
          <p:nvPr/>
        </p:nvSpPr>
        <p:spPr>
          <a:xfrm>
            <a:off x="3946680" y="4997520"/>
            <a:ext cx="928440" cy="1029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875120" y="4987800"/>
            <a:ext cx="928800" cy="1018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5803920" y="4991040"/>
            <a:ext cx="928800" cy="101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6730920" y="4991040"/>
            <a:ext cx="928800" cy="101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1170000" y="4989600"/>
            <a:ext cx="928800" cy="101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3025800" y="4992840"/>
            <a:ext cx="928800" cy="101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Suspension Bridg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milar to Cable-Stay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fferent construction metho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417760" y="3094200"/>
            <a:ext cx="174600" cy="271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251400" y="3097080"/>
            <a:ext cx="174960" cy="271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9" name="Group 8"/>
          <p:cNvGrpSpPr/>
          <p:nvPr/>
        </p:nvGrpSpPr>
        <p:grpSpPr>
          <a:xfrm>
            <a:off x="2495520" y="3093840"/>
            <a:ext cx="3865320" cy="1742760"/>
            <a:chOff x="2495520" y="3093840"/>
            <a:chExt cx="3865320" cy="1742760"/>
          </a:xfrm>
        </p:grpSpPr>
        <p:sp>
          <p:nvSpPr>
            <p:cNvPr id="230" name="Arc 6"/>
            <p:cNvSpPr/>
            <p:nvPr/>
          </p:nvSpPr>
          <p:spPr>
            <a:xfrm flipV="1">
              <a:off x="4420440" y="3093480"/>
              <a:ext cx="1940400" cy="1740600"/>
            </a:xfrm>
            <a:custGeom>
              <a:avLst/>
              <a:gdLst>
                <a:gd name="textAreaLeft" fmla="*/ 0 w 1940400"/>
                <a:gd name="textAreaRight" fmla="*/ 1940760 w 1940400"/>
                <a:gd name="textAreaTop" fmla="*/ -360 h 1740600"/>
                <a:gd name="textAreaBottom" fmla="*/ 1740600 h 1740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</a:path>
                <a:path stroke="0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-1"/>
                  </a:lnTo>
                  <a:close/>
                </a:path>
              </a:pathLst>
            </a:custGeom>
            <a:noFill/>
            <a:ln w="284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1" name="Arc 7"/>
            <p:cNvSpPr/>
            <p:nvPr/>
          </p:nvSpPr>
          <p:spPr>
            <a:xfrm flipH="1" flipV="1">
              <a:off x="2495520" y="3095640"/>
              <a:ext cx="1929600" cy="1740960"/>
            </a:xfrm>
            <a:custGeom>
              <a:avLst/>
              <a:gdLst>
                <a:gd name="textAreaLeft" fmla="*/ 360 w 1929600"/>
                <a:gd name="textAreaRight" fmla="*/ 1930320 w 1929600"/>
                <a:gd name="textAreaTop" fmla="*/ 360 h 1740960"/>
                <a:gd name="textAreaBottom" fmla="*/ 1741680 h 1740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</a:path>
                <a:path stroke="0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-1"/>
                  </a:lnTo>
                  <a:close/>
                </a:path>
              </a:pathLst>
            </a:custGeom>
            <a:noFill/>
            <a:ln w="284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32" name="Arc 9"/>
          <p:cNvSpPr/>
          <p:nvPr/>
        </p:nvSpPr>
        <p:spPr>
          <a:xfrm flipV="1">
            <a:off x="863640" y="3104280"/>
            <a:ext cx="1628640" cy="1955880"/>
          </a:xfrm>
          <a:custGeom>
            <a:avLst/>
            <a:gdLst>
              <a:gd name="textAreaLeft" fmla="*/ 0 w 1628640"/>
              <a:gd name="textAreaRight" fmla="*/ 1629000 w 1628640"/>
              <a:gd name="textAreaTop" fmla="*/ -360 h 1955880"/>
              <a:gd name="textAreaBottom" fmla="*/ 1955880 h 195588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Arc 10"/>
          <p:cNvSpPr/>
          <p:nvPr/>
        </p:nvSpPr>
        <p:spPr>
          <a:xfrm flipH="1" flipV="1">
            <a:off x="6350760" y="3107520"/>
            <a:ext cx="1528920" cy="1965240"/>
          </a:xfrm>
          <a:custGeom>
            <a:avLst/>
            <a:gdLst>
              <a:gd name="textAreaLeft" fmla="*/ -360 w 1528920"/>
              <a:gd name="textAreaRight" fmla="*/ 1528920 w 1528920"/>
              <a:gd name="textAreaTop" fmla="*/ -360 h 1965240"/>
              <a:gd name="textAreaBottom" fmla="*/ 1965240 h 196524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565200" y="4997520"/>
            <a:ext cx="601560" cy="75240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7655040" y="4986360"/>
            <a:ext cx="601560" cy="75240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Suspension Bridg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orks by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ensio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Compress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6919920" y="4816440"/>
            <a:ext cx="476280" cy="601200"/>
            <a:chOff x="6919920" y="4816440"/>
            <a:chExt cx="476280" cy="601200"/>
          </a:xfrm>
        </p:grpSpPr>
        <p:sp>
          <p:nvSpPr>
            <p:cNvPr id="239" name="Line 5"/>
            <p:cNvSpPr/>
            <p:nvPr/>
          </p:nvSpPr>
          <p:spPr>
            <a:xfrm>
              <a:off x="6919920" y="4816440"/>
              <a:ext cx="0" cy="563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7032600" y="4966920"/>
              <a:ext cx="0" cy="45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7157880" y="5079600"/>
              <a:ext cx="0" cy="299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2" name="Line 8"/>
            <p:cNvSpPr/>
            <p:nvPr/>
          </p:nvSpPr>
          <p:spPr>
            <a:xfrm>
              <a:off x="7283160" y="5192640"/>
              <a:ext cx="0" cy="199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3" name="Line 9"/>
            <p:cNvSpPr/>
            <p:nvPr/>
          </p:nvSpPr>
          <p:spPr>
            <a:xfrm>
              <a:off x="7396200" y="5241600"/>
              <a:ext cx="0" cy="16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6054840" y="4168800"/>
            <a:ext cx="739800" cy="1248840"/>
            <a:chOff x="6054840" y="4168800"/>
            <a:chExt cx="739800" cy="1248840"/>
          </a:xfrm>
        </p:grpSpPr>
        <p:sp>
          <p:nvSpPr>
            <p:cNvPr id="245" name="Line 11"/>
            <p:cNvSpPr/>
            <p:nvPr/>
          </p:nvSpPr>
          <p:spPr>
            <a:xfrm>
              <a:off x="6355080" y="4168800"/>
              <a:ext cx="0" cy="119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6205680" y="4431960"/>
              <a:ext cx="0" cy="91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6054840" y="4595760"/>
              <a:ext cx="0" cy="750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6681960" y="4390920"/>
              <a:ext cx="0" cy="988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9" name="Line 15"/>
            <p:cNvSpPr/>
            <p:nvPr/>
          </p:nvSpPr>
          <p:spPr>
            <a:xfrm>
              <a:off x="6794640" y="4654440"/>
              <a:ext cx="0" cy="76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43040" y="4788000"/>
            <a:ext cx="588960" cy="639720"/>
            <a:chOff x="1643040" y="4788000"/>
            <a:chExt cx="588960" cy="639720"/>
          </a:xfrm>
        </p:grpSpPr>
        <p:sp>
          <p:nvSpPr>
            <p:cNvPr id="251" name="Line 17"/>
            <p:cNvSpPr/>
            <p:nvPr/>
          </p:nvSpPr>
          <p:spPr>
            <a:xfrm>
              <a:off x="2232000" y="4788000"/>
              <a:ext cx="0" cy="60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2" name="Line 18"/>
            <p:cNvSpPr/>
            <p:nvPr/>
          </p:nvSpPr>
          <p:spPr>
            <a:xfrm>
              <a:off x="2119320" y="4913280"/>
              <a:ext cx="0" cy="48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3" name="Line 19"/>
            <p:cNvSpPr/>
            <p:nvPr/>
          </p:nvSpPr>
          <p:spPr>
            <a:xfrm>
              <a:off x="1993680" y="5051520"/>
              <a:ext cx="0" cy="33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4" name="Line 20"/>
            <p:cNvSpPr/>
            <p:nvPr/>
          </p:nvSpPr>
          <p:spPr>
            <a:xfrm>
              <a:off x="1868400" y="5151600"/>
              <a:ext cx="0" cy="26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5" name="Line 21"/>
            <p:cNvSpPr/>
            <p:nvPr/>
          </p:nvSpPr>
          <p:spPr>
            <a:xfrm>
              <a:off x="1755720" y="5213520"/>
              <a:ext cx="0" cy="214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6" name="Line 22"/>
            <p:cNvSpPr/>
            <p:nvPr/>
          </p:nvSpPr>
          <p:spPr>
            <a:xfrm>
              <a:off x="1643040" y="5276880"/>
              <a:ext cx="0" cy="138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7" name="Group 23"/>
          <p:cNvGrpSpPr/>
          <p:nvPr/>
        </p:nvGrpSpPr>
        <p:grpSpPr>
          <a:xfrm>
            <a:off x="2357280" y="4237200"/>
            <a:ext cx="801720" cy="1190520"/>
            <a:chOff x="2357280" y="4237200"/>
            <a:chExt cx="801720" cy="1190520"/>
          </a:xfrm>
        </p:grpSpPr>
        <p:sp>
          <p:nvSpPr>
            <p:cNvPr id="258" name="Line 24"/>
            <p:cNvSpPr/>
            <p:nvPr/>
          </p:nvSpPr>
          <p:spPr>
            <a:xfrm>
              <a:off x="2859120" y="4237200"/>
              <a:ext cx="0" cy="119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9" name="Line 25"/>
            <p:cNvSpPr/>
            <p:nvPr/>
          </p:nvSpPr>
          <p:spPr>
            <a:xfrm>
              <a:off x="3008160" y="448812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0" name="Line 26"/>
            <p:cNvSpPr/>
            <p:nvPr/>
          </p:nvSpPr>
          <p:spPr>
            <a:xfrm>
              <a:off x="3159000" y="4638960"/>
              <a:ext cx="0" cy="75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1" name="Line 27"/>
            <p:cNvSpPr/>
            <p:nvPr/>
          </p:nvSpPr>
          <p:spPr>
            <a:xfrm>
              <a:off x="2469960" y="4324320"/>
              <a:ext cx="0" cy="109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2" name="Line 28"/>
            <p:cNvSpPr/>
            <p:nvPr/>
          </p:nvSpPr>
          <p:spPr>
            <a:xfrm>
              <a:off x="2357280" y="4575240"/>
              <a:ext cx="0" cy="839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63" name="Rectangle 29"/>
          <p:cNvSpPr/>
          <p:nvPr/>
        </p:nvSpPr>
        <p:spPr>
          <a:xfrm>
            <a:off x="2251080" y="5359320"/>
            <a:ext cx="928800" cy="1015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64" name="Group 30"/>
          <p:cNvGrpSpPr/>
          <p:nvPr/>
        </p:nvGrpSpPr>
        <p:grpSpPr>
          <a:xfrm>
            <a:off x="3321000" y="4800600"/>
            <a:ext cx="663480" cy="601560"/>
            <a:chOff x="3321000" y="4800600"/>
            <a:chExt cx="663480" cy="601560"/>
          </a:xfrm>
        </p:grpSpPr>
        <p:sp>
          <p:nvSpPr>
            <p:cNvPr id="265" name="Line 31"/>
            <p:cNvSpPr/>
            <p:nvPr/>
          </p:nvSpPr>
          <p:spPr>
            <a:xfrm>
              <a:off x="3321000" y="4800600"/>
              <a:ext cx="0" cy="60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6" name="Line 32"/>
            <p:cNvSpPr/>
            <p:nvPr/>
          </p:nvSpPr>
          <p:spPr>
            <a:xfrm>
              <a:off x="3458880" y="4900320"/>
              <a:ext cx="0" cy="488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7" name="Line 33"/>
            <p:cNvSpPr/>
            <p:nvPr/>
          </p:nvSpPr>
          <p:spPr>
            <a:xfrm>
              <a:off x="3584520" y="4951080"/>
              <a:ext cx="0" cy="45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8" name="Line 34"/>
            <p:cNvSpPr/>
            <p:nvPr/>
          </p:nvSpPr>
          <p:spPr>
            <a:xfrm>
              <a:off x="3722400" y="5025960"/>
              <a:ext cx="0" cy="37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9" name="Line 35"/>
            <p:cNvSpPr/>
            <p:nvPr/>
          </p:nvSpPr>
          <p:spPr>
            <a:xfrm>
              <a:off x="3871800" y="5063760"/>
              <a:ext cx="0" cy="33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0" name="Line 36"/>
            <p:cNvSpPr/>
            <p:nvPr/>
          </p:nvSpPr>
          <p:spPr>
            <a:xfrm>
              <a:off x="3984480" y="5113080"/>
              <a:ext cx="0" cy="27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1" name="Group 37"/>
          <p:cNvGrpSpPr/>
          <p:nvPr/>
        </p:nvGrpSpPr>
        <p:grpSpPr>
          <a:xfrm>
            <a:off x="5103720" y="4757760"/>
            <a:ext cx="789120" cy="627120"/>
            <a:chOff x="5103720" y="4757760"/>
            <a:chExt cx="789120" cy="627120"/>
          </a:xfrm>
        </p:grpSpPr>
        <p:sp>
          <p:nvSpPr>
            <p:cNvPr id="272" name="Line 38"/>
            <p:cNvSpPr/>
            <p:nvPr/>
          </p:nvSpPr>
          <p:spPr>
            <a:xfrm>
              <a:off x="5892840" y="4757760"/>
              <a:ext cx="0" cy="60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3" name="Line 39"/>
            <p:cNvSpPr/>
            <p:nvPr/>
          </p:nvSpPr>
          <p:spPr>
            <a:xfrm>
              <a:off x="5754600" y="4857840"/>
              <a:ext cx="0" cy="48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4" name="Line 40"/>
            <p:cNvSpPr/>
            <p:nvPr/>
          </p:nvSpPr>
          <p:spPr>
            <a:xfrm>
              <a:off x="5629320" y="4934160"/>
              <a:ext cx="0" cy="45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5" name="Line 41"/>
            <p:cNvSpPr/>
            <p:nvPr/>
          </p:nvSpPr>
          <p:spPr>
            <a:xfrm>
              <a:off x="5491080" y="5008680"/>
              <a:ext cx="0" cy="37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6" name="Line 42"/>
            <p:cNvSpPr/>
            <p:nvPr/>
          </p:nvSpPr>
          <p:spPr>
            <a:xfrm>
              <a:off x="5341680" y="5046840"/>
              <a:ext cx="0" cy="33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7" name="Line 43"/>
            <p:cNvSpPr/>
            <p:nvPr/>
          </p:nvSpPr>
          <p:spPr>
            <a:xfrm>
              <a:off x="5229000" y="5108760"/>
              <a:ext cx="0" cy="27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8" name="Line 44"/>
            <p:cNvSpPr/>
            <p:nvPr/>
          </p:nvSpPr>
          <p:spPr>
            <a:xfrm>
              <a:off x="5103720" y="5146920"/>
              <a:ext cx="0" cy="237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9" name="Group 45"/>
          <p:cNvGrpSpPr/>
          <p:nvPr/>
        </p:nvGrpSpPr>
        <p:grpSpPr>
          <a:xfrm>
            <a:off x="4110120" y="5151600"/>
            <a:ext cx="855720" cy="250200"/>
            <a:chOff x="4110120" y="5151600"/>
            <a:chExt cx="855720" cy="250200"/>
          </a:xfrm>
        </p:grpSpPr>
        <p:sp>
          <p:nvSpPr>
            <p:cNvPr id="280" name="Line 46"/>
            <p:cNvSpPr/>
            <p:nvPr/>
          </p:nvSpPr>
          <p:spPr>
            <a:xfrm>
              <a:off x="4110120" y="5151600"/>
              <a:ext cx="0" cy="23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1" name="Line 47"/>
            <p:cNvSpPr/>
            <p:nvPr/>
          </p:nvSpPr>
          <p:spPr>
            <a:xfrm>
              <a:off x="4248360" y="5189400"/>
              <a:ext cx="0" cy="21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2" name="Line 48"/>
            <p:cNvSpPr/>
            <p:nvPr/>
          </p:nvSpPr>
          <p:spPr>
            <a:xfrm>
              <a:off x="4373640" y="5214600"/>
              <a:ext cx="0" cy="174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3" name="Line 49"/>
            <p:cNvSpPr/>
            <p:nvPr/>
          </p:nvSpPr>
          <p:spPr>
            <a:xfrm>
              <a:off x="4537440" y="5202000"/>
              <a:ext cx="0" cy="199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4" name="Line 50"/>
            <p:cNvSpPr/>
            <p:nvPr/>
          </p:nvSpPr>
          <p:spPr>
            <a:xfrm>
              <a:off x="4965840" y="5184720"/>
              <a:ext cx="0" cy="21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5" name="Line 51"/>
            <p:cNvSpPr/>
            <p:nvPr/>
          </p:nvSpPr>
          <p:spPr>
            <a:xfrm>
              <a:off x="4840560" y="5209920"/>
              <a:ext cx="0" cy="174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6" name="Line 52"/>
            <p:cNvSpPr/>
            <p:nvPr/>
          </p:nvSpPr>
          <p:spPr>
            <a:xfrm>
              <a:off x="4677120" y="5197320"/>
              <a:ext cx="0" cy="199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87" name="Rectangle 53"/>
          <p:cNvSpPr/>
          <p:nvPr/>
        </p:nvSpPr>
        <p:spPr>
          <a:xfrm>
            <a:off x="4098960" y="5364000"/>
            <a:ext cx="928800" cy="1033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Rectangle 54"/>
          <p:cNvSpPr/>
          <p:nvPr/>
        </p:nvSpPr>
        <p:spPr>
          <a:xfrm>
            <a:off x="5027760" y="5354640"/>
            <a:ext cx="928440" cy="1015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Rectangle 55"/>
          <p:cNvSpPr/>
          <p:nvPr/>
        </p:nvSpPr>
        <p:spPr>
          <a:xfrm>
            <a:off x="5956200" y="5357880"/>
            <a:ext cx="928800" cy="1015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Rectangle 56"/>
          <p:cNvSpPr/>
          <p:nvPr/>
        </p:nvSpPr>
        <p:spPr>
          <a:xfrm>
            <a:off x="6883560" y="5357880"/>
            <a:ext cx="928440" cy="1015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Rectangle 57"/>
          <p:cNvSpPr/>
          <p:nvPr/>
        </p:nvSpPr>
        <p:spPr>
          <a:xfrm>
            <a:off x="1322280" y="5356080"/>
            <a:ext cx="928800" cy="10188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Rectangle 58"/>
          <p:cNvSpPr/>
          <p:nvPr/>
        </p:nvSpPr>
        <p:spPr>
          <a:xfrm>
            <a:off x="3178080" y="5359320"/>
            <a:ext cx="928800" cy="1015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Rectangle 59"/>
          <p:cNvSpPr/>
          <p:nvPr/>
        </p:nvSpPr>
        <p:spPr>
          <a:xfrm>
            <a:off x="2570040" y="3460680"/>
            <a:ext cx="174600" cy="271800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Rectangle 60"/>
          <p:cNvSpPr/>
          <p:nvPr/>
        </p:nvSpPr>
        <p:spPr>
          <a:xfrm>
            <a:off x="6404040" y="3463920"/>
            <a:ext cx="174600" cy="271764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95" name="Group 61"/>
          <p:cNvGrpSpPr/>
          <p:nvPr/>
        </p:nvGrpSpPr>
        <p:grpSpPr>
          <a:xfrm>
            <a:off x="2647800" y="3460680"/>
            <a:ext cx="3865320" cy="1742400"/>
            <a:chOff x="2647800" y="3460680"/>
            <a:chExt cx="3865320" cy="1742400"/>
          </a:xfrm>
        </p:grpSpPr>
        <p:sp>
          <p:nvSpPr>
            <p:cNvPr id="296" name="Arc 62"/>
            <p:cNvSpPr/>
            <p:nvPr/>
          </p:nvSpPr>
          <p:spPr>
            <a:xfrm flipV="1">
              <a:off x="4572720" y="3460680"/>
              <a:ext cx="1940400" cy="1740960"/>
            </a:xfrm>
            <a:custGeom>
              <a:avLst/>
              <a:gdLst>
                <a:gd name="textAreaLeft" fmla="*/ 0 w 1940400"/>
                <a:gd name="textAreaRight" fmla="*/ 1940760 w 1940400"/>
                <a:gd name="textAreaTop" fmla="*/ 360 h 1740960"/>
                <a:gd name="textAreaBottom" fmla="*/ 1741680 h 1740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</a:path>
                <a:path stroke="0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-1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7" name="Arc 63"/>
            <p:cNvSpPr/>
            <p:nvPr/>
          </p:nvSpPr>
          <p:spPr>
            <a:xfrm flipH="1" flipV="1">
              <a:off x="2647800" y="3461400"/>
              <a:ext cx="1929600" cy="1741320"/>
            </a:xfrm>
            <a:custGeom>
              <a:avLst/>
              <a:gdLst>
                <a:gd name="textAreaLeft" fmla="*/ 360 w 1929600"/>
                <a:gd name="textAreaRight" fmla="*/ 1930320 w 1929600"/>
                <a:gd name="textAreaTop" fmla="*/ -360 h 1741320"/>
                <a:gd name="textAreaBottom" fmla="*/ 1741320 h 17413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</a:path>
                <a:path stroke="0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-1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98" name="Arc 64"/>
          <p:cNvSpPr/>
          <p:nvPr/>
        </p:nvSpPr>
        <p:spPr>
          <a:xfrm flipV="1">
            <a:off x="1015920" y="3471120"/>
            <a:ext cx="1629000" cy="1955880"/>
          </a:xfrm>
          <a:custGeom>
            <a:avLst/>
            <a:gdLst>
              <a:gd name="textAreaLeft" fmla="*/ 0 w 1629000"/>
              <a:gd name="textAreaRight" fmla="*/ 1629360 w 1629000"/>
              <a:gd name="textAreaTop" fmla="*/ -360 h 1955880"/>
              <a:gd name="textAreaBottom" fmla="*/ 1955880 h 195588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Arc 65"/>
          <p:cNvSpPr/>
          <p:nvPr/>
        </p:nvSpPr>
        <p:spPr>
          <a:xfrm flipH="1" flipV="1">
            <a:off x="6504120" y="3474360"/>
            <a:ext cx="1528560" cy="1965240"/>
          </a:xfrm>
          <a:custGeom>
            <a:avLst/>
            <a:gdLst>
              <a:gd name="textAreaLeft" fmla="*/ 360 w 1528560"/>
              <a:gd name="textAreaRight" fmla="*/ 1529280 w 1528560"/>
              <a:gd name="textAreaTop" fmla="*/ -360 h 1965240"/>
              <a:gd name="textAreaBottom" fmla="*/ 1965240 h 196524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Rectangle 66"/>
          <p:cNvSpPr/>
          <p:nvPr/>
        </p:nvSpPr>
        <p:spPr>
          <a:xfrm>
            <a:off x="717480" y="5364000"/>
            <a:ext cx="601560" cy="75276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Rectangle 67"/>
          <p:cNvSpPr/>
          <p:nvPr/>
        </p:nvSpPr>
        <p:spPr>
          <a:xfrm>
            <a:off x="7807320" y="5353200"/>
            <a:ext cx="601560" cy="75240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2" name="AutoShape 79"/>
          <p:cNvSpPr/>
          <p:nvPr/>
        </p:nvSpPr>
        <p:spPr>
          <a:xfrm>
            <a:off x="4335480" y="3699000"/>
            <a:ext cx="457200" cy="825480"/>
          </a:xfrm>
          <a:prstGeom prst="downArrow">
            <a:avLst>
              <a:gd name="adj1" fmla="val 50000"/>
              <a:gd name="adj2" fmla="val 4513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AutoShape 80"/>
          <p:cNvSpPr/>
          <p:nvPr/>
        </p:nvSpPr>
        <p:spPr>
          <a:xfrm>
            <a:off x="295200" y="5575320"/>
            <a:ext cx="677880" cy="324000"/>
          </a:xfrm>
          <a:prstGeom prst="leftArrow">
            <a:avLst>
              <a:gd name="adj1" fmla="val 50000"/>
              <a:gd name="adj2" fmla="val 5230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AutoShape 81"/>
          <p:cNvSpPr/>
          <p:nvPr/>
        </p:nvSpPr>
        <p:spPr>
          <a:xfrm flipH="1">
            <a:off x="8130600" y="5580000"/>
            <a:ext cx="677880" cy="324000"/>
          </a:xfrm>
          <a:prstGeom prst="leftArrow">
            <a:avLst>
              <a:gd name="adj1" fmla="val 50000"/>
              <a:gd name="adj2" fmla="val 5230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AutoShape 82"/>
          <p:cNvSpPr/>
          <p:nvPr/>
        </p:nvSpPr>
        <p:spPr>
          <a:xfrm>
            <a:off x="2478240" y="3451320"/>
            <a:ext cx="353880" cy="987480"/>
          </a:xfrm>
          <a:prstGeom prst="downArrow">
            <a:avLst>
              <a:gd name="adj1" fmla="val 50000"/>
              <a:gd name="adj2" fmla="val 6976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AutoShape 83"/>
          <p:cNvSpPr/>
          <p:nvPr/>
        </p:nvSpPr>
        <p:spPr>
          <a:xfrm>
            <a:off x="6318360" y="3456000"/>
            <a:ext cx="353880" cy="987480"/>
          </a:xfrm>
          <a:prstGeom prst="downArrow">
            <a:avLst>
              <a:gd name="adj1" fmla="val 50000"/>
              <a:gd name="adj2" fmla="val 6976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AutoShape 85"/>
          <p:cNvSpPr/>
          <p:nvPr/>
        </p:nvSpPr>
        <p:spPr>
          <a:xfrm>
            <a:off x="2492280" y="5162400"/>
            <a:ext cx="339840" cy="1001880"/>
          </a:xfrm>
          <a:prstGeom prst="upArrow">
            <a:avLst>
              <a:gd name="adj1" fmla="val 50000"/>
              <a:gd name="adj2" fmla="val 7370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AutoShape 86"/>
          <p:cNvSpPr/>
          <p:nvPr/>
        </p:nvSpPr>
        <p:spPr>
          <a:xfrm>
            <a:off x="6330960" y="5181480"/>
            <a:ext cx="339840" cy="1001880"/>
          </a:xfrm>
          <a:prstGeom prst="upArrow">
            <a:avLst>
              <a:gd name="adj1" fmla="val 50000"/>
              <a:gd name="adj2" fmla="val 7370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AutoShape 87"/>
          <p:cNvSpPr/>
          <p:nvPr/>
        </p:nvSpPr>
        <p:spPr>
          <a:xfrm>
            <a:off x="3660840" y="5322960"/>
            <a:ext cx="1779480" cy="176040"/>
          </a:xfrm>
          <a:prstGeom prst="leftRightArrow">
            <a:avLst>
              <a:gd name="adj1" fmla="val 50000"/>
              <a:gd name="adj2" fmla="val 20123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AutoShape 137"/>
          <p:cNvSpPr/>
          <p:nvPr/>
        </p:nvSpPr>
        <p:spPr>
          <a:xfrm>
            <a:off x="2951280" y="4660920"/>
            <a:ext cx="88920" cy="633240"/>
          </a:xfrm>
          <a:prstGeom prst="upDownArrow">
            <a:avLst>
              <a:gd name="adj1" fmla="val 50000"/>
              <a:gd name="adj2" fmla="val 14176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AutoShape 138"/>
          <p:cNvSpPr/>
          <p:nvPr/>
        </p:nvSpPr>
        <p:spPr>
          <a:xfrm>
            <a:off x="6170760" y="4635360"/>
            <a:ext cx="88920" cy="633600"/>
          </a:xfrm>
          <a:prstGeom prst="upDownArrow">
            <a:avLst>
              <a:gd name="adj1" fmla="val 50000"/>
              <a:gd name="adj2" fmla="val 14185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AutoShape 139"/>
          <p:cNvSpPr/>
          <p:nvPr/>
        </p:nvSpPr>
        <p:spPr>
          <a:xfrm>
            <a:off x="6647040" y="4640400"/>
            <a:ext cx="88560" cy="633240"/>
          </a:xfrm>
          <a:prstGeom prst="upDownArrow">
            <a:avLst>
              <a:gd name="adj1" fmla="val 50000"/>
              <a:gd name="adj2" fmla="val 14234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AutoShape 140"/>
          <p:cNvSpPr/>
          <p:nvPr/>
        </p:nvSpPr>
        <p:spPr>
          <a:xfrm>
            <a:off x="2417760" y="4645080"/>
            <a:ext cx="88920" cy="633240"/>
          </a:xfrm>
          <a:prstGeom prst="upDownArrow">
            <a:avLst>
              <a:gd name="adj1" fmla="val 50000"/>
              <a:gd name="adj2" fmla="val 14176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AutoShape 143"/>
          <p:cNvSpPr/>
          <p:nvPr/>
        </p:nvSpPr>
        <p:spPr>
          <a:xfrm rot="3551400">
            <a:off x="2684880" y="4259880"/>
            <a:ext cx="442800" cy="88920"/>
          </a:xfrm>
          <a:prstGeom prst="leftArrow">
            <a:avLst>
              <a:gd name="adj1" fmla="val 50000"/>
              <a:gd name="adj2" fmla="val 12449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AutoShape 144"/>
          <p:cNvSpPr/>
          <p:nvPr/>
        </p:nvSpPr>
        <p:spPr>
          <a:xfrm rot="2287800">
            <a:off x="2963520" y="4587480"/>
            <a:ext cx="382680" cy="88920"/>
          </a:xfrm>
          <a:prstGeom prst="rightArrow">
            <a:avLst>
              <a:gd name="adj1" fmla="val 50000"/>
              <a:gd name="adj2" fmla="val 10759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AutoShape 145"/>
          <p:cNvSpPr/>
          <p:nvPr/>
        </p:nvSpPr>
        <p:spPr>
          <a:xfrm rot="4177800">
            <a:off x="6435720" y="4250520"/>
            <a:ext cx="443160" cy="88920"/>
          </a:xfrm>
          <a:prstGeom prst="leftArrow">
            <a:avLst>
              <a:gd name="adj1" fmla="val 50000"/>
              <a:gd name="adj2" fmla="val 12459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AutoShape 147"/>
          <p:cNvSpPr/>
          <p:nvPr/>
        </p:nvSpPr>
        <p:spPr>
          <a:xfrm rot="3400800">
            <a:off x="6656760" y="4637880"/>
            <a:ext cx="382680" cy="88920"/>
          </a:xfrm>
          <a:prstGeom prst="rightArrow">
            <a:avLst>
              <a:gd name="adj1" fmla="val 50000"/>
              <a:gd name="adj2" fmla="val 10759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8" name="AutoShape 148"/>
          <p:cNvSpPr/>
          <p:nvPr/>
        </p:nvSpPr>
        <p:spPr>
          <a:xfrm flipH="1" rot="18048600">
            <a:off x="6081840" y="4190400"/>
            <a:ext cx="442800" cy="8856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AutoShape 150"/>
          <p:cNvSpPr/>
          <p:nvPr/>
        </p:nvSpPr>
        <p:spPr>
          <a:xfrm flipH="1" rot="19068000">
            <a:off x="5856840" y="4521240"/>
            <a:ext cx="382680" cy="88560"/>
          </a:xfrm>
          <a:prstGeom prst="rightArrow">
            <a:avLst>
              <a:gd name="adj1" fmla="val 50000"/>
              <a:gd name="adj2" fmla="val 10802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AutoShape 151"/>
          <p:cNvSpPr/>
          <p:nvPr/>
        </p:nvSpPr>
        <p:spPr>
          <a:xfrm flipH="1" rot="18048600">
            <a:off x="2234160" y="4342320"/>
            <a:ext cx="442800" cy="88920"/>
          </a:xfrm>
          <a:prstGeom prst="leftArrow">
            <a:avLst>
              <a:gd name="adj1" fmla="val 50000"/>
              <a:gd name="adj2" fmla="val 12449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AutoShape 152"/>
          <p:cNvSpPr/>
          <p:nvPr/>
        </p:nvSpPr>
        <p:spPr>
          <a:xfrm flipH="1" rot="18580200">
            <a:off x="2067480" y="4672800"/>
            <a:ext cx="382680" cy="89280"/>
          </a:xfrm>
          <a:prstGeom prst="rightArrow">
            <a:avLst>
              <a:gd name="adj1" fmla="val 50000"/>
              <a:gd name="adj2" fmla="val 10715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7 L -1.94444E-006 0.12685 E">
                                      <p:cBhvr>
                                        <p:cTn id="292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6" dur="1000" fill="hold"/>
                                        <p:tgtEl>
                                          <p:spTgt spid="309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0" dur="1000" fill="hold"/>
                                        <p:tgtEl>
                                          <p:spTgt spid="313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1000" fill="hold"/>
                                        <p:tgtEl>
                                          <p:spTgt spid="310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1000" fill="hold"/>
                                        <p:tgtEl>
                                          <p:spTgt spid="311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2" dur="1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81481E-006 L -0.0224 -0.04513 E">
                                      <p:cBhvr>
                                        <p:cTn id="31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7 0.00648 L 0.03871 0.03658 E">
                                      <p:cBhvr>
                                        <p:cTn id="320" dur="1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-0.01441 -0.04931 E">
                                      <p:cBhvr>
                                        <p:cTn id="324" dur="1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7 L 0.03055 0.04514 E">
                                      <p:cBhvr>
                                        <p:cTn id="32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85185E-006 L 0.01458 -0.05185 E">
                                      <p:cBhvr>
                                        <p:cTn id="332" dur="1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045E-016 -3.33333E-006 L -0.03559 0.03473 E">
                                      <p:cBhvr>
                                        <p:cTn id="336" dur="1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85185E-006 L 0.01458 -0.05185 E">
                                      <p:cBhvr>
                                        <p:cTn id="340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59259E-006 L -0.0276 0.04514 E">
                                      <p:cBhvr>
                                        <p:cTn id="344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96296E-006 L 3.88889E-006 0.08241 E">
                                      <p:cBhvr>
                                        <p:cTn id="348" dur="1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01458 L -3.05556E-006 0.0831 E">
                                      <p:cBhvr>
                                        <p:cTn id="352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4444E-006 L 4.16667E-006 -0.04953 E">
                                      <p:cBhvr>
                                        <p:cTn id="356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2.5E-006 -0.04953 E">
                                      <p:cBhvr>
                                        <p:cTn id="360" dur="1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48148E-006 L 0.04791 1.48148E-006 E">
                                      <p:cBhvr>
                                        <p:cTn id="364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07407E-006 L -0.04201 -4.07407E-006 E">
                                      <p:cBhvr>
                                        <p:cTn id="368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5" descr="ZakimBridgeScienceMuseum"/>
          <p:cNvPicPr/>
          <p:nvPr/>
        </p:nvPicPr>
        <p:blipFill>
          <a:blip r:embed="rId1"/>
          <a:stretch/>
        </p:blipFill>
        <p:spPr>
          <a:xfrm>
            <a:off x="1798560" y="403200"/>
            <a:ext cx="5688000" cy="585144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1"/>
          <p:cNvSpPr/>
          <p:nvPr/>
        </p:nvSpPr>
        <p:spPr>
          <a:xfrm>
            <a:off x="1785960" y="6330960"/>
            <a:ext cx="33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akim Bridge, Boston, M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Some Uses of Bridg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alkway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ghways/Road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ailway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ipelin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necting land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rossing rivers and cany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" name="Picture 9" descr="inca%20bridge"/>
          <p:cNvPicPr/>
          <p:nvPr/>
        </p:nvPicPr>
        <p:blipFill>
          <a:blip r:embed="rId1"/>
          <a:stretch/>
        </p:blipFill>
        <p:spPr>
          <a:xfrm>
            <a:off x="4952880" y="1600200"/>
            <a:ext cx="3214800" cy="4525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6" descr="cable-sunshine%20skyway%20bridge%20pic"/>
          <p:cNvPicPr/>
          <p:nvPr/>
        </p:nvPicPr>
        <p:blipFill>
          <a:blip r:embed="rId1"/>
          <a:srcRect l="2646" t="3335" r="0" b="0"/>
          <a:stretch/>
        </p:blipFill>
        <p:spPr>
          <a:xfrm>
            <a:off x="608040" y="527040"/>
            <a:ext cx="8023320" cy="545616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7"/>
          <p:cNvSpPr/>
          <p:nvPr/>
        </p:nvSpPr>
        <p:spPr>
          <a:xfrm>
            <a:off x="606600" y="6064200"/>
            <a:ext cx="40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unshine Skyway Bridge, Tampa, F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6" descr="turtlebay-sundialbridge"/>
          <p:cNvPicPr/>
          <p:nvPr/>
        </p:nvPicPr>
        <p:blipFill>
          <a:blip r:embed="rId1"/>
          <a:stretch/>
        </p:blipFill>
        <p:spPr>
          <a:xfrm>
            <a:off x="865080" y="614520"/>
            <a:ext cx="7466040" cy="53323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888840" y="600876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undial Bridge, Redding, C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Cable-Stayed Bridg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have you seen these bridge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Cable-Stayed Bridg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orks by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ensio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Compress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685800" y="4929120"/>
            <a:ext cx="7772400" cy="88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2832120" y="3249720"/>
            <a:ext cx="190440" cy="263988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6264360" y="3254400"/>
            <a:ext cx="190440" cy="263988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Line 7"/>
          <p:cNvSpPr/>
          <p:nvPr/>
        </p:nvSpPr>
        <p:spPr>
          <a:xfrm>
            <a:off x="2927520" y="3233880"/>
            <a:ext cx="1711080" cy="16812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Line 8"/>
          <p:cNvSpPr/>
          <p:nvPr/>
        </p:nvSpPr>
        <p:spPr>
          <a:xfrm>
            <a:off x="6353280" y="3268800"/>
            <a:ext cx="1711080" cy="16812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Line 9"/>
          <p:cNvSpPr/>
          <p:nvPr/>
        </p:nvSpPr>
        <p:spPr>
          <a:xfrm flipH="1">
            <a:off x="1262160" y="3249720"/>
            <a:ext cx="1665360" cy="166536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Line 10"/>
          <p:cNvSpPr/>
          <p:nvPr/>
        </p:nvSpPr>
        <p:spPr>
          <a:xfrm flipH="1">
            <a:off x="4689360" y="3282840"/>
            <a:ext cx="1665360" cy="166536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Line 11"/>
          <p:cNvSpPr/>
          <p:nvPr/>
        </p:nvSpPr>
        <p:spPr>
          <a:xfrm flipH="1">
            <a:off x="1820520" y="3735360"/>
            <a:ext cx="1003320" cy="12096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0" name="Line 12"/>
          <p:cNvSpPr/>
          <p:nvPr/>
        </p:nvSpPr>
        <p:spPr>
          <a:xfrm flipH="1">
            <a:off x="2455560" y="4267080"/>
            <a:ext cx="368280" cy="6480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Line 13"/>
          <p:cNvSpPr/>
          <p:nvPr/>
        </p:nvSpPr>
        <p:spPr>
          <a:xfrm>
            <a:off x="3030480" y="4281480"/>
            <a:ext cx="339840" cy="6336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Line 14"/>
          <p:cNvSpPr/>
          <p:nvPr/>
        </p:nvSpPr>
        <p:spPr>
          <a:xfrm>
            <a:off x="3016080" y="3706920"/>
            <a:ext cx="898560" cy="120816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Line 15"/>
          <p:cNvSpPr/>
          <p:nvPr/>
        </p:nvSpPr>
        <p:spPr>
          <a:xfrm flipH="1">
            <a:off x="5330880" y="3794040"/>
            <a:ext cx="930240" cy="113688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4" name="Line 16"/>
          <p:cNvSpPr/>
          <p:nvPr/>
        </p:nvSpPr>
        <p:spPr>
          <a:xfrm flipH="1">
            <a:off x="5935680" y="4309920"/>
            <a:ext cx="325440" cy="6210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Line 17"/>
          <p:cNvSpPr/>
          <p:nvPr/>
        </p:nvSpPr>
        <p:spPr>
          <a:xfrm>
            <a:off x="6467400" y="4281480"/>
            <a:ext cx="354240" cy="66348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Line 18"/>
          <p:cNvSpPr/>
          <p:nvPr/>
        </p:nvSpPr>
        <p:spPr>
          <a:xfrm>
            <a:off x="6467400" y="3780000"/>
            <a:ext cx="898560" cy="113508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AutoShape 19"/>
          <p:cNvSpPr/>
          <p:nvPr/>
        </p:nvSpPr>
        <p:spPr>
          <a:xfrm>
            <a:off x="4411800" y="3246480"/>
            <a:ext cx="529920" cy="1065240"/>
          </a:xfrm>
          <a:prstGeom prst="downArrow">
            <a:avLst>
              <a:gd name="adj1" fmla="val 50000"/>
              <a:gd name="adj2" fmla="val 5025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8" name="AutoShape 21"/>
          <p:cNvSpPr/>
          <p:nvPr/>
        </p:nvSpPr>
        <p:spPr>
          <a:xfrm flipH="1" flipV="1" rot="2665200">
            <a:off x="5637960" y="3669480"/>
            <a:ext cx="117720" cy="527400"/>
          </a:xfrm>
          <a:prstGeom prst="downArrow">
            <a:avLst>
              <a:gd name="adj1" fmla="val 50000"/>
              <a:gd name="adj2" fmla="val 11200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AutoShape 22"/>
          <p:cNvSpPr/>
          <p:nvPr/>
        </p:nvSpPr>
        <p:spPr>
          <a:xfrm flipH="1" flipV="1" rot="13465200">
            <a:off x="5275080" y="4043160"/>
            <a:ext cx="117360" cy="527040"/>
          </a:xfrm>
          <a:prstGeom prst="downArrow">
            <a:avLst>
              <a:gd name="adj1" fmla="val 50000"/>
              <a:gd name="adj2" fmla="val 11227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AutoShape 23"/>
          <p:cNvSpPr/>
          <p:nvPr/>
        </p:nvSpPr>
        <p:spPr>
          <a:xfrm flipV="1" rot="18934800">
            <a:off x="3595680" y="3675240"/>
            <a:ext cx="117360" cy="527040"/>
          </a:xfrm>
          <a:prstGeom prst="downArrow">
            <a:avLst>
              <a:gd name="adj1" fmla="val 50000"/>
              <a:gd name="adj2" fmla="val 11227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AutoShape 24"/>
          <p:cNvSpPr/>
          <p:nvPr/>
        </p:nvSpPr>
        <p:spPr>
          <a:xfrm flipV="1" rot="8134800">
            <a:off x="3970080" y="4049280"/>
            <a:ext cx="117360" cy="527040"/>
          </a:xfrm>
          <a:prstGeom prst="downArrow">
            <a:avLst>
              <a:gd name="adj1" fmla="val 50000"/>
              <a:gd name="adj2" fmla="val 11227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AutoShape 25"/>
          <p:cNvSpPr/>
          <p:nvPr/>
        </p:nvSpPr>
        <p:spPr>
          <a:xfrm flipH="1" flipV="1" rot="2665200">
            <a:off x="2177280" y="3675240"/>
            <a:ext cx="117360" cy="527040"/>
          </a:xfrm>
          <a:prstGeom prst="downArrow">
            <a:avLst>
              <a:gd name="adj1" fmla="val 50000"/>
              <a:gd name="adj2" fmla="val 11227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AutoShape 26"/>
          <p:cNvSpPr/>
          <p:nvPr/>
        </p:nvSpPr>
        <p:spPr>
          <a:xfrm flipH="1" flipV="1" rot="13465200">
            <a:off x="1812960" y="4047480"/>
            <a:ext cx="117720" cy="527400"/>
          </a:xfrm>
          <a:prstGeom prst="downArrow">
            <a:avLst>
              <a:gd name="adj1" fmla="val 50000"/>
              <a:gd name="adj2" fmla="val 11200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AutoShape 29"/>
          <p:cNvSpPr/>
          <p:nvPr/>
        </p:nvSpPr>
        <p:spPr>
          <a:xfrm flipV="1" rot="18934800">
            <a:off x="7035840" y="3726000"/>
            <a:ext cx="117360" cy="527040"/>
          </a:xfrm>
          <a:prstGeom prst="downArrow">
            <a:avLst>
              <a:gd name="adj1" fmla="val 50000"/>
              <a:gd name="adj2" fmla="val 11227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AutoShape 30"/>
          <p:cNvSpPr/>
          <p:nvPr/>
        </p:nvSpPr>
        <p:spPr>
          <a:xfrm flipV="1" rot="8134800">
            <a:off x="7410240" y="4100040"/>
            <a:ext cx="117360" cy="527040"/>
          </a:xfrm>
          <a:prstGeom prst="downArrow">
            <a:avLst>
              <a:gd name="adj1" fmla="val 50000"/>
              <a:gd name="adj2" fmla="val 11227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AutoShape 31"/>
          <p:cNvSpPr/>
          <p:nvPr/>
        </p:nvSpPr>
        <p:spPr>
          <a:xfrm>
            <a:off x="6194520" y="3257640"/>
            <a:ext cx="309600" cy="811080"/>
          </a:xfrm>
          <a:prstGeom prst="downArrow">
            <a:avLst>
              <a:gd name="adj1" fmla="val 50000"/>
              <a:gd name="adj2" fmla="val 6549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AutoShape 32"/>
          <p:cNvSpPr/>
          <p:nvPr/>
        </p:nvSpPr>
        <p:spPr>
          <a:xfrm flipV="1">
            <a:off x="6199200" y="5061960"/>
            <a:ext cx="309600" cy="811080"/>
          </a:xfrm>
          <a:prstGeom prst="downArrow">
            <a:avLst>
              <a:gd name="adj1" fmla="val 50000"/>
              <a:gd name="adj2" fmla="val 6549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AutoShape 33"/>
          <p:cNvSpPr/>
          <p:nvPr/>
        </p:nvSpPr>
        <p:spPr>
          <a:xfrm>
            <a:off x="2763720" y="3246480"/>
            <a:ext cx="309600" cy="811080"/>
          </a:xfrm>
          <a:prstGeom prst="downArrow">
            <a:avLst>
              <a:gd name="adj1" fmla="val 50000"/>
              <a:gd name="adj2" fmla="val 6549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AutoShape 34"/>
          <p:cNvSpPr/>
          <p:nvPr/>
        </p:nvSpPr>
        <p:spPr>
          <a:xfrm flipV="1">
            <a:off x="2768760" y="5050800"/>
            <a:ext cx="309240" cy="811080"/>
          </a:xfrm>
          <a:prstGeom prst="downArrow">
            <a:avLst>
              <a:gd name="adj1" fmla="val 50000"/>
              <a:gd name="adj2" fmla="val 655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AutoShape 35"/>
          <p:cNvSpPr/>
          <p:nvPr/>
        </p:nvSpPr>
        <p:spPr>
          <a:xfrm>
            <a:off x="1254240" y="4836960"/>
            <a:ext cx="855720" cy="265320"/>
          </a:xfrm>
          <a:prstGeom prst="rightArrow">
            <a:avLst>
              <a:gd name="adj1" fmla="val 50000"/>
              <a:gd name="adj2" fmla="val 806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AutoShape 36"/>
          <p:cNvSpPr/>
          <p:nvPr/>
        </p:nvSpPr>
        <p:spPr>
          <a:xfrm>
            <a:off x="4694400" y="4842000"/>
            <a:ext cx="855360" cy="264960"/>
          </a:xfrm>
          <a:prstGeom prst="rightArrow">
            <a:avLst>
              <a:gd name="adj1" fmla="val 50000"/>
              <a:gd name="adj2" fmla="val 8070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AutoShape 37"/>
          <p:cNvSpPr/>
          <p:nvPr/>
        </p:nvSpPr>
        <p:spPr>
          <a:xfrm flipH="1">
            <a:off x="3823560" y="4842000"/>
            <a:ext cx="855720" cy="264960"/>
          </a:xfrm>
          <a:prstGeom prst="rightArrow">
            <a:avLst>
              <a:gd name="adj1" fmla="val 50000"/>
              <a:gd name="adj2" fmla="val 8074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AutoShape 38"/>
          <p:cNvSpPr/>
          <p:nvPr/>
        </p:nvSpPr>
        <p:spPr>
          <a:xfrm flipH="1">
            <a:off x="7233480" y="4848120"/>
            <a:ext cx="855720" cy="265320"/>
          </a:xfrm>
          <a:prstGeom prst="rightArrow">
            <a:avLst>
              <a:gd name="adj1" fmla="val 50000"/>
              <a:gd name="adj2" fmla="val 806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1.66667E-006 0.09676 E">
                                      <p:cBhvr>
                                        <p:cTn id="374" dur="1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11111E-006 L 0.04844 -0.06458 E">
                                      <p:cBhvr>
                                        <p:cTn id="377" dur="1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07407E-006 L -0.04531 0.06042 E">
                                      <p:cBhvr>
                                        <p:cTn id="379" dur="1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44444E-006 L -0.05156 -0.06875 E">
                                      <p:cBhvr>
                                        <p:cTn id="381" dur="1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04514 0.06018 E">
                                      <p:cBhvr>
                                        <p:cTn id="383" dur="1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11111E-006 L 0.04844 -0.06458 E">
                                      <p:cBhvr>
                                        <p:cTn id="385" dur="1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07407E-006 L -0.04531 0.06042 E">
                                      <p:cBhvr>
                                        <p:cTn id="387" dur="1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44444E-006 L -0.05156 -0.06875 E">
                                      <p:cBhvr>
                                        <p:cTn id="389" dur="1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04514 0.06018 E">
                                      <p:cBhvr>
                                        <p:cTn id="391" dur="1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2.22222E-006 L 0.00156 0.07523 E">
                                      <p:cBhvr>
                                        <p:cTn id="394" dur="1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2.22222E-006 L 0.00156 -0.07083 E">
                                      <p:cBhvr>
                                        <p:cTn id="396" dur="1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2.22222E-006 L 0.00156 0.07523 E">
                                      <p:cBhvr>
                                        <p:cTn id="398" dur="1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2.22222E-006 L 0.00156 -0.07083 E">
                                      <p:cBhvr>
                                        <p:cTn id="400" dur="1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6296E-006 L 0.08854 2.96296E-006 E">
                                      <p:cBhvr>
                                        <p:cTn id="402" dur="1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6296E-006 L 0.08854 2.96296E-006 E">
                                      <p:cBhvr>
                                        <p:cTn id="404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7037E-007 L -0.1 -3.7037E-007 E">
                                      <p:cBhvr>
                                        <p:cTn id="406" dur="1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7037E-007 L -0.1 -3.7037E-007 E">
                                      <p:cBhvr>
                                        <p:cTn id="408" dur="1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Cable-Stayed Bridg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Pier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– the vertical supporting structur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Cabl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– thick steel ropes from which the decking is suspend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Comic Sans MS"/>
              </a:rPr>
              <a:t>Decking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– the supported roadway on a brid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2898720" y="3687840"/>
            <a:ext cx="190440" cy="2639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6330960" y="3692520"/>
            <a:ext cx="190440" cy="2639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Line 9"/>
          <p:cNvSpPr/>
          <p:nvPr/>
        </p:nvSpPr>
        <p:spPr>
          <a:xfrm>
            <a:off x="2994120" y="3672000"/>
            <a:ext cx="1711080" cy="16812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Line 10"/>
          <p:cNvSpPr/>
          <p:nvPr/>
        </p:nvSpPr>
        <p:spPr>
          <a:xfrm>
            <a:off x="6419880" y="3706920"/>
            <a:ext cx="1711440" cy="16812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Line 11"/>
          <p:cNvSpPr/>
          <p:nvPr/>
        </p:nvSpPr>
        <p:spPr>
          <a:xfrm flipH="1">
            <a:off x="1328760" y="3687840"/>
            <a:ext cx="1665360" cy="166536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Line 12"/>
          <p:cNvSpPr/>
          <p:nvPr/>
        </p:nvSpPr>
        <p:spPr>
          <a:xfrm flipH="1">
            <a:off x="4755960" y="3720960"/>
            <a:ext cx="1665000" cy="166536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Line 13"/>
          <p:cNvSpPr/>
          <p:nvPr/>
        </p:nvSpPr>
        <p:spPr>
          <a:xfrm flipH="1">
            <a:off x="1887120" y="4173480"/>
            <a:ext cx="1003320" cy="12096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Line 14"/>
          <p:cNvSpPr/>
          <p:nvPr/>
        </p:nvSpPr>
        <p:spPr>
          <a:xfrm flipH="1">
            <a:off x="2522160" y="4705200"/>
            <a:ext cx="368280" cy="6480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Line 15"/>
          <p:cNvSpPr/>
          <p:nvPr/>
        </p:nvSpPr>
        <p:spPr>
          <a:xfrm>
            <a:off x="3097080" y="4719600"/>
            <a:ext cx="339840" cy="6336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Line 16"/>
          <p:cNvSpPr/>
          <p:nvPr/>
        </p:nvSpPr>
        <p:spPr>
          <a:xfrm>
            <a:off x="3083040" y="4145040"/>
            <a:ext cx="898560" cy="120816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Line 17"/>
          <p:cNvSpPr/>
          <p:nvPr/>
        </p:nvSpPr>
        <p:spPr>
          <a:xfrm flipH="1">
            <a:off x="5397480" y="4232160"/>
            <a:ext cx="930240" cy="113688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Line 18"/>
          <p:cNvSpPr/>
          <p:nvPr/>
        </p:nvSpPr>
        <p:spPr>
          <a:xfrm flipH="1">
            <a:off x="6002280" y="4748040"/>
            <a:ext cx="325440" cy="6210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Line 19"/>
          <p:cNvSpPr/>
          <p:nvPr/>
        </p:nvSpPr>
        <p:spPr>
          <a:xfrm>
            <a:off x="6534000" y="4719600"/>
            <a:ext cx="354240" cy="66348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Line 20"/>
          <p:cNvSpPr/>
          <p:nvPr/>
        </p:nvSpPr>
        <p:spPr>
          <a:xfrm>
            <a:off x="6534000" y="4218120"/>
            <a:ext cx="898560" cy="113508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Rectangle 21"/>
          <p:cNvSpPr/>
          <p:nvPr/>
        </p:nvSpPr>
        <p:spPr>
          <a:xfrm>
            <a:off x="2374920" y="5359320"/>
            <a:ext cx="1193760" cy="8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Rectangle 22"/>
          <p:cNvSpPr/>
          <p:nvPr/>
        </p:nvSpPr>
        <p:spPr>
          <a:xfrm>
            <a:off x="5816520" y="5359320"/>
            <a:ext cx="1193760" cy="8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Rectangle 23"/>
          <p:cNvSpPr/>
          <p:nvPr/>
        </p:nvSpPr>
        <p:spPr>
          <a:xfrm flipV="1">
            <a:off x="3568680" y="5358600"/>
            <a:ext cx="812880" cy="8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Rectangle 24"/>
          <p:cNvSpPr/>
          <p:nvPr/>
        </p:nvSpPr>
        <p:spPr>
          <a:xfrm flipV="1">
            <a:off x="1562040" y="5358600"/>
            <a:ext cx="812880" cy="8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Rectangle 25"/>
          <p:cNvSpPr/>
          <p:nvPr/>
        </p:nvSpPr>
        <p:spPr>
          <a:xfrm flipV="1">
            <a:off x="7010280" y="5358600"/>
            <a:ext cx="812880" cy="8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Rectangle 26"/>
          <p:cNvSpPr/>
          <p:nvPr/>
        </p:nvSpPr>
        <p:spPr>
          <a:xfrm flipV="1">
            <a:off x="5003640" y="5358600"/>
            <a:ext cx="812880" cy="8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Rectangle 27"/>
          <p:cNvSpPr/>
          <p:nvPr/>
        </p:nvSpPr>
        <p:spPr>
          <a:xfrm>
            <a:off x="1028880" y="5359320"/>
            <a:ext cx="533160" cy="8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Rectangle 28"/>
          <p:cNvSpPr/>
          <p:nvPr/>
        </p:nvSpPr>
        <p:spPr>
          <a:xfrm>
            <a:off x="7823160" y="5359320"/>
            <a:ext cx="533520" cy="8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Rectangle 29"/>
          <p:cNvSpPr/>
          <p:nvPr/>
        </p:nvSpPr>
        <p:spPr>
          <a:xfrm>
            <a:off x="4381560" y="5359320"/>
            <a:ext cx="622080" cy="8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Other Typ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pic>
        <p:nvPicPr>
          <p:cNvPr id="390" name="Picture 5" descr="Forth-Bridge7"/>
          <p:cNvPicPr/>
          <p:nvPr/>
        </p:nvPicPr>
        <p:blipFill>
          <a:blip r:embed="rId1"/>
          <a:stretch/>
        </p:blipFill>
        <p:spPr>
          <a:xfrm>
            <a:off x="4826160" y="3743280"/>
            <a:ext cx="4054320" cy="274176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0"/>
          <p:cNvSpPr/>
          <p:nvPr/>
        </p:nvSpPr>
        <p:spPr>
          <a:xfrm>
            <a:off x="4572000" y="1706400"/>
            <a:ext cx="4114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rus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outhern Pacific Railroad Bridge, Tempe, AZ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846000" y="5411880"/>
            <a:ext cx="3946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Cantilever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rth of Forth-Forth Rail Bridge, Edinburgh, Scotlan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93" name="Picture 14" descr="Southern_Pacific_Railroad_Bridge_Tempe_web"/>
          <p:cNvPicPr/>
          <p:nvPr/>
        </p:nvPicPr>
        <p:blipFill>
          <a:blip r:embed="rId2"/>
          <a:stretch/>
        </p:blipFill>
        <p:spPr>
          <a:xfrm>
            <a:off x="457200" y="1630440"/>
            <a:ext cx="4038480" cy="268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Engineering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gineering – the use of math and science to solve real world problems (like crossing a river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ivil engineering – designing and building bridges, roadways, tunnels, buildings, dams, etc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96" name="Picture 8" descr="brenner"/>
          <p:cNvPicPr/>
          <p:nvPr/>
        </p:nvPicPr>
        <p:blipFill>
          <a:blip r:embed="rId1"/>
          <a:stretch/>
        </p:blipFill>
        <p:spPr>
          <a:xfrm>
            <a:off x="4888080" y="3786120"/>
            <a:ext cx="2916000" cy="2187720"/>
          </a:xfrm>
          <a:prstGeom prst="rect">
            <a:avLst/>
          </a:prstGeom>
          <a:ln w="0">
            <a:noFill/>
          </a:ln>
        </p:spPr>
      </p:pic>
      <p:sp>
        <p:nvSpPr>
          <p:cNvPr id="39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1235160" y="4649760"/>
            <a:ext cx="28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ivil Engine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0" name="Line 11"/>
          <p:cNvSpPr/>
          <p:nvPr/>
        </p:nvSpPr>
        <p:spPr>
          <a:xfrm>
            <a:off x="2876400" y="4848120"/>
            <a:ext cx="1882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Branches of Civil Engineering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al – bridges, roads, building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otechnical – foundations, excavations, and tunne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ansportation – roads, traffic control, airpor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nvironmental – human impact on the environ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Other Types of Engineering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echanical – design machines and moving par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lectrical – design electrical equip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emical – design processes for mixing chemica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uter – design computer hardware and softwa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Types of Bridg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uss (beam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tilev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ble-Stay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spen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5" name="Picture 5" descr="Stone-Arch-Bridge-Fall"/>
          <p:cNvPicPr/>
          <p:nvPr/>
        </p:nvPicPr>
        <p:blipFill>
          <a:blip r:embed="rId1"/>
          <a:stretch/>
        </p:blipFill>
        <p:spPr>
          <a:xfrm>
            <a:off x="3157560" y="1500120"/>
            <a:ext cx="2022480" cy="1344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truss_bridge"/>
          <p:cNvPicPr/>
          <p:nvPr/>
        </p:nvPicPr>
        <p:blipFill>
          <a:blip r:embed="rId2"/>
          <a:stretch/>
        </p:blipFill>
        <p:spPr>
          <a:xfrm>
            <a:off x="6051600" y="1959120"/>
            <a:ext cx="1981080" cy="1430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us-043_072_tn_river_br_01"/>
          <p:cNvPicPr/>
          <p:nvPr/>
        </p:nvPicPr>
        <p:blipFill>
          <a:blip r:embed="rId3"/>
          <a:stretch/>
        </p:blipFill>
        <p:spPr>
          <a:xfrm>
            <a:off x="3754440" y="303372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bridge-cs1"/>
          <p:cNvPicPr/>
          <p:nvPr/>
        </p:nvPicPr>
        <p:blipFill>
          <a:blip r:embed="rId4"/>
          <a:stretch/>
        </p:blipFill>
        <p:spPr>
          <a:xfrm>
            <a:off x="6515280" y="3662280"/>
            <a:ext cx="2090520" cy="153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T046106A"/>
          <p:cNvPicPr/>
          <p:nvPr/>
        </p:nvPicPr>
        <p:blipFill>
          <a:blip r:embed="rId5"/>
          <a:stretch/>
        </p:blipFill>
        <p:spPr>
          <a:xfrm>
            <a:off x="3956040" y="4759200"/>
            <a:ext cx="2246400" cy="1522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Comic Sans MS"/>
              </a:rPr>
              <a:t>What makes a bridge stay up?</a:t>
            </a:r>
            <a:endParaRPr b="1" lang="en-US" sz="40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165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Compres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a pushing or squeezing for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en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a pulling or stretching for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6245280" y="1886040"/>
            <a:ext cx="121932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6253200" y="3755880"/>
            <a:ext cx="12193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4836960" y="1962000"/>
            <a:ext cx="1143000" cy="609840"/>
          </a:xfrm>
          <a:prstGeom prst="rightArrow">
            <a:avLst>
              <a:gd name="adj1" fmla="val 50000"/>
              <a:gd name="adj2" fmla="val 4685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AutoShape 9"/>
          <p:cNvSpPr/>
          <p:nvPr/>
        </p:nvSpPr>
        <p:spPr>
          <a:xfrm flipH="1">
            <a:off x="7728840" y="1962000"/>
            <a:ext cx="1143000" cy="609840"/>
          </a:xfrm>
          <a:prstGeom prst="rightArrow">
            <a:avLst>
              <a:gd name="adj1" fmla="val 50000"/>
              <a:gd name="adj2" fmla="val 4685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6923160" y="3832200"/>
            <a:ext cx="1143000" cy="609480"/>
          </a:xfrm>
          <a:prstGeom prst="rightArrow">
            <a:avLst>
              <a:gd name="adj1" fmla="val 50000"/>
              <a:gd name="adj2" fmla="val 4688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AutoShape 12"/>
          <p:cNvSpPr/>
          <p:nvPr/>
        </p:nvSpPr>
        <p:spPr>
          <a:xfrm flipH="1">
            <a:off x="5664960" y="3832200"/>
            <a:ext cx="1143000" cy="609480"/>
          </a:xfrm>
          <a:prstGeom prst="rightArrow">
            <a:avLst>
              <a:gd name="adj1" fmla="val 50000"/>
              <a:gd name="adj2" fmla="val 4688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0.09184 -1.48148E-006 E">
                                      <p:cBhvr>
                                        <p:cTn id="108" dur="1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48148E-006 L -0.09045 -1.48148E-006 E">
                                      <p:cBhvr>
                                        <p:cTn id="110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07407E-006 L -0.09357 4.07407E-006 E">
                                      <p:cBhvr>
                                        <p:cTn id="127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07407E-006 L 0.08716 4.07407E-006 E">
                                      <p:cBhvr>
                                        <p:cTn id="129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Bridges.mov" descr=""/>
          <p:cNvPicPr/>
          <p:nvPr/>
        </p:nvPicPr>
        <p:blipFill>
          <a:blip r:embed="rId1"/>
          <a:stretch/>
        </p:blipFill>
        <p:spPr>
          <a:xfrm>
            <a:off x="882720" y="333360"/>
            <a:ext cx="7416720" cy="556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Comic Sans MS"/>
              </a:rPr>
              <a:t>What makes a bridge stay up?</a:t>
            </a:r>
            <a:endParaRPr b="1" lang="en-US" sz="40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Compres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a pushing or squeezing for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en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a pulling or stretching for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1"/>
          <a:stretch/>
        </p:blipFill>
        <p:spPr>
          <a:xfrm>
            <a:off x="4216320" y="2990880"/>
            <a:ext cx="4572000" cy="163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Arch Bridg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have you seen these bridge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9" descr="Cold%20Spring%20Arch%20Bridge%202"/>
          <p:cNvPicPr/>
          <p:nvPr/>
        </p:nvPicPr>
        <p:blipFill>
          <a:blip r:embed="rId1"/>
          <a:stretch/>
        </p:blipFill>
        <p:spPr>
          <a:xfrm>
            <a:off x="457200" y="463680"/>
            <a:ext cx="8229600" cy="54734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1"/>
          <p:cNvSpPr/>
          <p:nvPr/>
        </p:nvSpPr>
        <p:spPr>
          <a:xfrm>
            <a:off x="522360" y="6026040"/>
            <a:ext cx="48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ld Spring Arch Bridge, Santa Barbara, C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rainbow_arch_bridge_riverton"/>
          <p:cNvPicPr/>
          <p:nvPr/>
        </p:nvPicPr>
        <p:blipFill>
          <a:blip r:embed="rId1"/>
          <a:stretch/>
        </p:blipFill>
        <p:spPr>
          <a:xfrm>
            <a:off x="492120" y="776160"/>
            <a:ext cx="8148600" cy="4856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461880" y="564516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arsh Rainbow Arch, Riverton, K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5:43:11Z</dcterms:created>
  <dc:creator>student</dc:creator>
  <dc:description/>
  <dc:language>en-US</dc:language>
  <cp:lastModifiedBy>St. Aloysius</cp:lastModifiedBy>
  <dcterms:modified xsi:type="dcterms:W3CDTF">2013-04-10T17:36:12Z</dcterms:modified>
  <cp:revision>34</cp:revision>
  <dc:subject/>
  <dc:title>Slide 1</dc:title>
</cp:coreProperties>
</file>